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FB6DA-CB0F-4B9F-913B-B3A2B7E27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70846-9F64-4348-AA3C-2DEC55B0F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77EE8-4B5B-4DF6-A347-997A4EB4B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E4834-799F-42DF-88DA-34584229A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EADC6F-B0D3-42D5-A3A3-82FDF2231AC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249C21-D4C3-49BF-BC3C-DD26738A95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EF94A0-E007-4750-9ACA-134B7D9702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E82906-5F49-48ED-91EC-257423DE6B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0E4891-502C-46D6-AB9C-F1F7888839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6EB26-9E44-40A5-A3CB-41383E5512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43269-3A31-4404-88A5-A7E0C34F50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CDE41-35BF-463D-A0FF-496251C18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70892-E590-4EB1-89F9-D41A53AC24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1E376-F580-43E7-A482-3EED07C06A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298A68-A851-402A-88C5-DBFBC2BB7C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948735-4935-4E8D-AB59-60E4624001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634ACA-4041-4B5C-9E15-D35767E722A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5DB57-CC2B-410F-B1CD-69D30ABE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0D4C7-E4DC-4F9F-A8CA-15AF23B8F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61813-2896-4CAB-AD73-FD0D398E1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4C407-4D9D-424E-84FF-AB3843872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FA10-7D5A-4104-8791-E0E7A75B8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4A9C3-C5A0-46B9-8619-BB6280B3B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0963-DE65-4BA1-A433-A1614D375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5904-9CF6-4BE7-AF27-E6D25EAA63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7404-B215-4F58-A2AA-11267F2D6D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pc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c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6.1 Under The Hood</a:t>
            </a:r>
            <a:endParaRPr b="0" lang="en-US" sz="4400" spc="-1" strike="noStrike">
              <a:solidFill>
                <a:srgbClr val="ffffff"/>
              </a:solidFill>
              <a:latin typeface="Arial"/>
            </a:endParaRPr>
          </a:p>
        </p:txBody>
      </p:sp>
      <p:sp>
        <p:nvSpPr>
          <p:cNvPr id="84" name="PlaceHolder 2"/>
          <p:cNvSpPr>
            <a:spLocks noGrp="1"/>
          </p:cNvSpPr>
          <p:nvPr>
            <p:ph type="subTitle"/>
          </p:nvPr>
        </p:nvSpPr>
        <p:spPr>
          <a:xfrm>
            <a:off x="1371600" y="3885840"/>
            <a:ext cx="6477120" cy="213372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olin Renouf</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WAS on AIX Best Practices RedBo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2)</a:t>
            </a:r>
            <a:endParaRPr b="0" lang="en-US" sz="4400" spc="-1" strike="noStrike">
              <a:solidFill>
                <a:srgbClr val="ffffff"/>
              </a:solidFill>
              <a:latin typeface="Arial"/>
            </a:endParaRPr>
          </a:p>
        </p:txBody>
      </p:sp>
      <p:sp>
        <p:nvSpPr>
          <p:cNvPr id="104" name="PlaceHolder 2"/>
          <p:cNvSpPr>
            <a:spLocks noGrp="1"/>
          </p:cNvSpPr>
          <p:nvPr>
            <p:ph/>
          </p:nvPr>
        </p:nvSpPr>
        <p:spPr>
          <a:xfrm>
            <a:off x="228600" y="609120"/>
            <a:ext cx="876312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7000"/>
          </a:bodyPr>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S control in </a:t>
            </a:r>
            <a:r>
              <a:rPr b="1" lang="en-US" sz="2000" spc="-1" strike="noStrike">
                <a:solidFill>
                  <a:srgbClr val="ffffff"/>
                </a:solidFill>
                <a:latin typeface="Courier New"/>
              </a:rPr>
              <a:t>aix.systemlaunch.properties</a:t>
            </a:r>
            <a:r>
              <a:rPr b="0" lang="en-US" sz="2000" spc="-1" strike="noStrike">
                <a:solidFill>
                  <a:srgbClr val="ffffff"/>
                </a:solidFill>
                <a:latin typeface="Arial"/>
              </a:rPr>
              <a:t> file in </a:t>
            </a:r>
            <a:r>
              <a:rPr b="1" lang="en-US" sz="2000" spc="-1" strike="noStrike">
                <a:solidFill>
                  <a:srgbClr val="ffffff"/>
                </a:solidFill>
                <a:latin typeface="Courier New"/>
              </a:rPr>
              <a:t>com.ibm.ws.runtime_6.1.0.jar</a:t>
            </a:r>
            <a:endParaRPr b="0" lang="en-US" sz="2000" spc="-1" strike="noStrike">
              <a:solidFill>
                <a:srgbClr val="ffffff"/>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Default system properties</a:t>
            </a:r>
            <a:endParaRPr b="0" lang="en-US" sz="1200" spc="-1" strike="noStrike">
              <a:solidFill>
                <a:srgbClr val="ffffff"/>
              </a:solidFill>
              <a:latin typeface="Arial"/>
            </a:endParaRPr>
          </a:p>
          <a:p>
            <a:pPr lvl="1" marL="7207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Default environment settings</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m.ibm.websphere.management.launcher.defaultEnvironment=EXTSHM=ON</a:t>
            </a:r>
            <a:endParaRPr b="0" lang="en-US" sz="1200" spc="-1" strike="noStrike">
              <a:solidFill>
                <a:srgbClr val="ffffff"/>
              </a:solidFill>
              <a:latin typeface="Arial"/>
            </a:endParaRPr>
          </a:p>
          <a:p>
            <a:pPr lvl="1" marL="7207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Default JVM options</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m.ibm.websphere.management.launcher.defaultJvmOptions=-Declipse.security -Dosgi.install.area=${WAS_INSTALL_ROOT} -Dosgi.configuration.area=${USER_INSTALL_ROOT}/configuration -Djava.awt.headless=true -Dosgi.framework.extensions=com.ibm.cds -Xshareclasses:name=webspherev61_%g,groupAccess,nonFatal -Xscmx50M</a:t>
            </a:r>
            <a:endParaRPr b="0" lang="en-US" sz="1200" spc="-1" strike="noStrike">
              <a:solidFill>
                <a:srgbClr val="ffffff"/>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to command line by </a:t>
            </a:r>
            <a:r>
              <a:rPr b="1" lang="en-US" sz="2000" spc="-1" strike="noStrike">
                <a:solidFill>
                  <a:srgbClr val="ffffff"/>
                </a:solidFill>
                <a:latin typeface="Courier New"/>
              </a:rPr>
              <a:t>WSServerLauncher</a:t>
            </a:r>
            <a:r>
              <a:rPr b="0" lang="en-US" sz="2000" spc="-1" strike="noStrike">
                <a:solidFill>
                  <a:srgbClr val="ffffff"/>
                </a:solidFill>
                <a:latin typeface="Arial"/>
              </a:rPr>
              <a:t> in </a:t>
            </a:r>
            <a:r>
              <a:rPr b="1" lang="en-US" sz="2000" spc="-1" strike="noStrike">
                <a:solidFill>
                  <a:srgbClr val="ffffff"/>
                </a:solidFill>
                <a:latin typeface="Courier New"/>
              </a:rPr>
              <a:t>com.ibm.ws.runtime_6.1.0.jar</a:t>
            </a:r>
            <a:endParaRPr b="0" lang="en-US" sz="2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implementation of the standard Java </a:t>
            </a:r>
            <a:r>
              <a:rPr b="1" lang="en-US" sz="2000" spc="-1" strike="noStrike">
                <a:solidFill>
                  <a:srgbClr val="ffffff"/>
                </a:solidFill>
                <a:latin typeface="Arial"/>
              </a:rPr>
              <a:t>URLClassLoader</a:t>
            </a:r>
            <a:r>
              <a:rPr b="0" lang="en-US" sz="2000" spc="-1" strike="noStrike">
                <a:solidFill>
                  <a:srgbClr val="ffffff"/>
                </a:solidFill>
                <a:latin typeface="Arial"/>
              </a:rPr>
              <a:t> has been changed to first look in the cache for the </a:t>
            </a:r>
            <a:r>
              <a:rPr b="1" lang="en-US" sz="2000" spc="-1" strike="noStrike">
                <a:solidFill>
                  <a:srgbClr val="ffffff"/>
                </a:solidFill>
                <a:latin typeface="Arial"/>
              </a:rPr>
              <a:t>ROMClass</a:t>
            </a:r>
            <a:r>
              <a:rPr b="0" lang="en-US" sz="2000" spc="-1" strike="noStrike">
                <a:solidFill>
                  <a:srgbClr val="ffffff"/>
                </a:solidFill>
                <a:latin typeface="Arial"/>
              </a:rPr>
              <a:t> rather than keep going back to disk with each new JVM instance.</a:t>
            </a:r>
            <a:endParaRPr b="0" lang="en-US" sz="2000" spc="-1" strike="noStrike">
              <a:solidFill>
                <a:srgbClr val="ffffff"/>
              </a:solidFill>
              <a:latin typeface="Arial"/>
            </a:endParaRPr>
          </a:p>
          <a:p>
            <a:pPr marL="3326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Java code that subclasses the standard </a:t>
            </a:r>
            <a:r>
              <a:rPr b="1" lang="en-US" sz="2000" spc="-1" strike="noStrike">
                <a:solidFill>
                  <a:srgbClr val="ffffff"/>
                </a:solidFill>
                <a:latin typeface="Arial"/>
              </a:rPr>
              <a:t>URLClassLoader </a:t>
            </a:r>
            <a:r>
              <a:rPr b="0" lang="en-US" sz="2000" spc="-1" strike="noStrike">
                <a:solidFill>
                  <a:srgbClr val="ffffff"/>
                </a:solidFill>
                <a:latin typeface="Arial"/>
              </a:rPr>
              <a:t>will benefit from the shared class cache.</a:t>
            </a:r>
            <a:endParaRPr b="0" lang="en-US" sz="2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 that doesn’t use the URLClassLoader can be made to use the cache through IBM provided helper APIs</a:t>
            </a:r>
            <a:endParaRPr b="0" lang="en-US" sz="2000" spc="-1" strike="noStrike">
              <a:solidFill>
                <a:srgbClr val="ffffff"/>
              </a:solidFill>
              <a:latin typeface="Arial"/>
            </a:endParaRPr>
          </a:p>
          <a:p>
            <a:pPr lvl="1" marL="720720" indent="-27720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in the </a:t>
            </a:r>
            <a:r>
              <a:rPr b="1" lang="en-US" sz="1600" spc="-1" strike="noStrike">
                <a:solidFill>
                  <a:srgbClr val="ffffff"/>
                </a:solidFill>
                <a:latin typeface="Arial"/>
              </a:rPr>
              <a:t>com.ibm.cds_1.0.0.jar</a:t>
            </a:r>
            <a:r>
              <a:rPr b="0" lang="en-US" sz="1600" spc="-1" strike="noStrike">
                <a:solidFill>
                  <a:srgbClr val="ffffff"/>
                </a:solidFill>
                <a:latin typeface="Arial"/>
              </a:rPr>
              <a:t> file used within the OSGI/Eclipse framework underlying WA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3)</a:t>
            </a:r>
            <a:endParaRPr b="0" lang="en-US" sz="4400" spc="-1" strike="noStrike">
              <a:solidFill>
                <a:srgbClr val="ffffff"/>
              </a:solidFill>
              <a:latin typeface="Arial"/>
            </a:endParaRPr>
          </a:p>
        </p:txBody>
      </p:sp>
      <p:sp>
        <p:nvSpPr>
          <p:cNvPr id="106" name="PlaceHolder 2"/>
          <p:cNvSpPr>
            <a:spLocks noGrp="1"/>
          </p:cNvSpPr>
          <p:nvPr>
            <p:ph/>
          </p:nvPr>
        </p:nvSpPr>
        <p:spPr>
          <a:xfrm>
            <a:off x="152280" y="609120"/>
            <a:ext cx="883944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count WAS and Java run under affects use of the cache</a:t>
            </a:r>
            <a:endParaRPr b="0" lang="en-US" sz="18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r>
              <a:rPr b="0" lang="en-US" sz="1000" spc="-1" strike="noStrike">
                <a:solidFill>
                  <a:srgbClr val="ffffff"/>
                </a:solidFill>
                <a:latin typeface="Courier New"/>
              </a:rPr>
              <a:t> </a:t>
            </a:r>
            <a:r>
              <a:rPr b="0" lang="en-US" sz="1200" spc="-1" strike="noStrike">
                <a:solidFill>
                  <a:srgbClr val="ffffff"/>
                </a:solidFill>
                <a:latin typeface="Courier New"/>
              </a:rPr>
              <a:t>/usr/IBM/WebSphere/AppServer/java/jre/bin/java -Xshareclasses:listAllCaches</a:t>
            </a:r>
            <a:endParaRPr b="0" lang="en-US" sz="12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hared Cache            OS shmid   in use   Last detach time</a:t>
            </a:r>
            <a:endParaRPr b="0" lang="en-US" sz="12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ebspherev61_system     1048576    2        Thu Jun 14 23:31:27 2007</a:t>
            </a:r>
            <a:endParaRPr b="0" lang="en-US" sz="12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ebspherev61_staff      3          1        Thu Jun 14 23:20:17 2007</a:t>
            </a:r>
            <a:endParaRPr b="0" lang="en-US" sz="12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ebspherev61_wasgroup   1048576    2        Thu Jun 14 23:31:27 2007</a:t>
            </a:r>
            <a:endParaRPr b="0" lang="en-US" sz="12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uld not create the Java virtual machine.</a:t>
            </a:r>
            <a:endParaRPr b="0" lang="en-US" sz="12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fills with core Java libraries so benefits are not as good as they could be.</a:t>
            </a:r>
            <a:endParaRPr b="0" lang="en-US" sz="1800" spc="-1" strike="noStrike">
              <a:solidFill>
                <a:srgbClr val="ffffff"/>
              </a:solidFill>
              <a:latin typeface="Arial"/>
            </a:endParaRPr>
          </a:p>
          <a:p>
            <a:pPr lvl="1" marL="735480" indent="-2829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 usage is the limiting factor</a:t>
            </a:r>
            <a:endParaRPr b="0" lang="en-US" sz="1600" spc="-1" strike="noStrike">
              <a:solidFill>
                <a:srgbClr val="ffffff"/>
              </a:solidFill>
              <a:latin typeface="Arial"/>
            </a:endParaRPr>
          </a:p>
          <a:p>
            <a:pPr lvl="1" marL="735480" indent="-2829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6 JVM (probably for WAS 7) uses memory mapped files to remove the restriction</a:t>
            </a:r>
            <a:endParaRPr b="0" lang="en-US" sz="16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usr/IBM/WebSphere/AppServer/java/jre/bin/java -Xshareclasses:name=webspherev61_wasgroup,printStats</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urrent statistics for cache "webspherev61_wasgroup": </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base address       = 0x0700000010000090</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end address        = 0x07000000131FFFF0</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llocation pointer = 0x0700000012FB1510</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ache size         = 52428656</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free bytes         = 1320004</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ROMClass bytes     = 50009216</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Metadata bytes     = 1099436</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Metadata % used    = 2%</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ROMClasses       = 11397</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Classpaths       = 9</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URLs             = 23</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Tokens           = 0</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Stale classes    = 0</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Stale classes    = 0%</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ache is 97% full</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ould not create the Java virtual machin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4)</a:t>
            </a:r>
            <a:endParaRPr b="0" lang="en-US" sz="4400" spc="-1" strike="noStrike">
              <a:solidFill>
                <a:srgbClr val="ffffff"/>
              </a:solidFill>
              <a:latin typeface="Arial"/>
            </a:endParaRPr>
          </a:p>
        </p:txBody>
      </p:sp>
      <p:sp>
        <p:nvSpPr>
          <p:cNvPr id="108" name="PlaceHolder 2"/>
          <p:cNvSpPr>
            <a:spLocks noGrp="1"/>
          </p:cNvSpPr>
          <p:nvPr>
            <p:ph/>
          </p:nvPr>
        </p:nvSpPr>
        <p:spPr>
          <a:xfrm>
            <a:off x="152280" y="609120"/>
            <a:ext cx="883944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lling down shows the cache contains the core Java standard library:</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usr/IBM/WebSphere/AppServer/java/jre/bin/java -Xshareclasses:name=webspherev61_wasgroup,printAllStats</a:t>
            </a:r>
            <a:endParaRPr b="0" lang="en-US" sz="1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urrent statistics for cache "webspherev61_wasgroup": </a:t>
            </a:r>
            <a:endParaRPr b="0" lang="en-US" sz="1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7A8 CLASSPATH</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ext/ibmorb.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ext/ibmext.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vm.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core.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charsets.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graphics.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security.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pkcs.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orb.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cfw.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orbapi.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jcefw.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jgssprovider.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jsseprovider2.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jaaslm.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certpathprovider.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server.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xml.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748 ROMCLASS: java/lang/Object at 0x0700000010000090.</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2 in classpath 0x07000000131FF7A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708 ROMCLASS: java/lang/J9VMInternals at 0x070000001000071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2 in classpath 0x07000000131FF7A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6C8 ROMCLASS: java/lang/Class at 0x07000000100020E0.</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2 in classpath 0x07000000131FF7A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688 ROMCLASS: java/io/Serializable at 0x0700000010008630.</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3 in classpath 0x07000000131FF7A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648 ROMCLASS: java/lang/reflect/GenericDeclaration at 0x07000000100086F0.</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3 in classpath 0x07000000131FF7A8</a:t>
            </a:r>
            <a:endParaRPr b="0" lang="en-US" sz="10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5)</a:t>
            </a:r>
            <a:endParaRPr b="0" lang="en-US" sz="4400" spc="-1" strike="noStrike">
              <a:solidFill>
                <a:srgbClr val="ffffff"/>
              </a:solidFill>
              <a:latin typeface="Arial"/>
            </a:endParaRPr>
          </a:p>
        </p:txBody>
      </p:sp>
      <p:sp>
        <p:nvSpPr>
          <p:cNvPr id="110" name="PlaceHolder 2"/>
          <p:cNvSpPr>
            <a:spLocks noGrp="1"/>
          </p:cNvSpPr>
          <p:nvPr>
            <p:ph/>
          </p:nvPr>
        </p:nvSpPr>
        <p:spPr>
          <a:xfrm>
            <a:off x="152280" y="762120"/>
            <a:ext cx="8839440" cy="54864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concurrent access to the cache is via /tmp/javasharedresources</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ls /tmp/javasharedresources</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memory_colin_G01</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memory_webspherev61_wasgroup_G01  </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semaphore_webspherev61_system</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memory_webspherev61_staff_G01     </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semaphore_colin                   </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semaphore_webspherev61_wasgroup</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memory_webspherev61_system_G01    </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semaphore_webspherev61_staff</a:t>
            </a:r>
            <a:endParaRPr b="0" lang="en-US" sz="1200" spc="-1" strike="noStrike">
              <a:solidFill>
                <a:srgbClr val="ffffff"/>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OMClasses that are stored in the cache rather than native code itself. </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tive code is stored and handled by the JIT compiler  for each JVM.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Java6 JVM native code is stor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6)</a:t>
            </a:r>
            <a:endParaRPr b="0" lang="en-US" sz="4400" spc="-1" strike="noStrike">
              <a:solidFill>
                <a:srgbClr val="ffffff"/>
              </a:solidFill>
              <a:latin typeface="Arial"/>
            </a:endParaRPr>
          </a:p>
        </p:txBody>
      </p:sp>
      <p:sp>
        <p:nvSpPr>
          <p:cNvPr id="112" name="PlaceHolder 2"/>
          <p:cNvSpPr>
            <a:spLocks noGrp="1"/>
          </p:cNvSpPr>
          <p:nvPr>
            <p:ph/>
          </p:nvPr>
        </p:nvSpPr>
        <p:spPr>
          <a:xfrm>
            <a:off x="152280" y="609120"/>
            <a:ext cx="883944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the time to load multiple WAS instances to see the cache benefit:</a:t>
            </a:r>
            <a:endParaRPr b="0" lang="en-US" sz="20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timeit.sh</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Listing caches</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JVMSHRC005I No shared class caches availab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Could not create the Java virtual machin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bout to start instance 1 at: Sat 16 Jun 21:00:36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0116I: Tool information is being logged in fi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a:t>
            </a:r>
            <a:r>
              <a:rPr b="1" lang="en-US" sz="1000" spc="-1" strike="noStrike">
                <a:solidFill>
                  <a:srgbClr val="ffffff"/>
                </a:solidFill>
                <a:latin typeface="Courier New"/>
              </a:rPr>
              <a:t>/usr/IBM/WebSphere/AppServer/profiles/sandpit2/logs/server1/startServer.log</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0128I: Starting tool with the sandpit2 profi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100I: Reading configuration for server: server1</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200I: Server launched. Waiting for initialization status.</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000I: Server server1 open for e-business; process id is 303260</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Instance 1 completed loading at Sat 16 Jun 21:04:50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Shared Cache            OS shmid   in use   Last detach tim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webspherev61_system     5242880    1        Sat Jun 16 21:01:20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Could not create the Java virtual machin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bout to start instance 2 at: Sat 16 Jun 21:04:51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0116I: Tool information is being logged in fi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a:t>
            </a:r>
            <a:r>
              <a:rPr b="1" lang="en-US" sz="1000" spc="-1" strike="noStrike">
                <a:solidFill>
                  <a:srgbClr val="ffffff"/>
                </a:solidFill>
                <a:latin typeface="Courier New"/>
              </a:rPr>
              <a:t>/usr/IBM/WebSphere/AppServer/profiles/sandpit/logs/server1/startServer.log</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0128I: Starting tool with the sandpit profi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100I: Reading configuration for server: server1</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200I: Server launched. Waiting for initialization status.</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000I: Server server1 open for e-business; process id is 213026</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Instance 2 completed loading at Sat 16 Jun 21:08:05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usr/IBM/WebSphere/AppServer/java/jre/bin/java -Xshareclasses:listAllCaches</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Shared Cache            OS shmid   in use   Last detach tim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webspherev61_system     5242880    2        Sat Jun 16 21:05:29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Could not create the Java virtual machine.</a:t>
            </a:r>
            <a:endParaRPr b="0" lang="en-US" sz="10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instance started in 3 minutes 14 seconds and the first in 4 minutes 14 secon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7)</a:t>
            </a:r>
            <a:endParaRPr b="0" lang="en-US" sz="4400" spc="-1" strike="noStrike">
              <a:solidFill>
                <a:srgbClr val="ffffff"/>
              </a:solidFill>
              <a:latin typeface="Arial"/>
            </a:endParaRPr>
          </a:p>
        </p:txBody>
      </p:sp>
      <p:graphicFrame>
        <p:nvGraphicFramePr>
          <p:cNvPr id="114" name=""/>
          <p:cNvGraphicFramePr/>
          <p:nvPr/>
        </p:nvGraphicFramePr>
        <p:xfrm>
          <a:off x="304920" y="795240"/>
          <a:ext cx="8534160" cy="5869080"/>
        </p:xfrm>
        <a:graphic>
          <a:graphicData uri="http://schemas.openxmlformats.org/presentationml/2006/ole">
            <p:oleObj progId="Word.Document.12" r:id="rId2" spid="">
              <p:embed/>
              <p:pic>
                <p:nvPicPr>
                  <p:cNvPr id="115" name="" descr=""/>
                  <p:cNvPicPr/>
                  <p:nvPr/>
                </p:nvPicPr>
                <p:blipFill>
                  <a:blip r:embed="rId3"/>
                  <a:stretch/>
                </p:blipFill>
                <p:spPr>
                  <a:xfrm>
                    <a:off x="304920" y="795240"/>
                    <a:ext cx="8534160" cy="58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240" y="685440"/>
            <a:ext cx="883908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size control for machines that can benefit from it in performance and memory us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use </a:t>
            </a:r>
            <a:r>
              <a:rPr b="1" lang="en-US" sz="2000" spc="-1" strike="noStrike">
                <a:solidFill>
                  <a:srgbClr val="ffffff"/>
                </a:solidFill>
                <a:latin typeface="Arial"/>
              </a:rPr>
              <a:t>–Xlp64K</a:t>
            </a:r>
            <a:r>
              <a:rPr b="0" lang="en-US" sz="2000" spc="-1" strike="noStrike">
                <a:solidFill>
                  <a:srgbClr val="ffffff"/>
                </a:solidFill>
                <a:latin typeface="Arial"/>
              </a:rPr>
              <a:t> for POWER5+ for 64K pages </a:t>
            </a:r>
            <a:endParaRPr b="0" lang="en-US" sz="2000" spc="-1" strike="noStrike">
              <a:solidFill>
                <a:srgbClr val="ffffff"/>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rbage collection improvem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replaces assumption that everything could be a reference to a Java object with a type accurate approach </a:t>
            </a:r>
            <a:endParaRPr b="0" lang="en-US" sz="20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reference use stored with it to allow easier moving and removal</a:t>
            </a: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verbosegc option to find out what settings are appropriate</a:t>
            </a:r>
            <a:endParaRPr b="0" lang="en-US" sz="2000" spc="-1" strike="noStrike">
              <a:solidFill>
                <a:srgbClr val="ffffff"/>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pools allow the splitting of the heap into multiple subheaps accessed by and managed by separate threads. </a:t>
            </a:r>
            <a:endParaRPr b="0" lang="en-US" sz="20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parallel compaction</a:t>
            </a:r>
            <a:endParaRPr b="0" lang="en-US" sz="18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subheaps varies with the number of CPUs available for use by the JVM. </a:t>
            </a:r>
            <a:endParaRPr b="0" lang="en-US" sz="18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y is enabled by the </a:t>
            </a:r>
            <a:r>
              <a:rPr b="1" lang="en-US" sz="1800" spc="-1" strike="noStrike">
                <a:solidFill>
                  <a:srgbClr val="ffffff"/>
                </a:solidFill>
                <a:latin typeface="Arial"/>
              </a:rPr>
              <a:t>–Xgcpolicy:subpool</a:t>
            </a:r>
            <a:r>
              <a:rPr b="0" lang="en-US" sz="1800" spc="-1" strike="noStrike">
                <a:solidFill>
                  <a:srgbClr val="ffffff"/>
                </a:solidFill>
                <a:latin typeface="Arial"/>
              </a:rPr>
              <a:t> option. </a:t>
            </a:r>
            <a:endParaRPr b="0" lang="en-US" sz="1800" spc="-1" strike="noStrike">
              <a:solidFill>
                <a:srgbClr val="ffffff"/>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er and older objects can separated on the heap to fit assumption that “objects die young”</a:t>
            </a:r>
            <a:endParaRPr b="0" lang="en-US" sz="20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s fragmentation. </a:t>
            </a:r>
            <a:endParaRPr b="0" lang="en-US" sz="18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ional collection is enabled by the </a:t>
            </a:r>
            <a:r>
              <a:rPr b="1" lang="en-US" sz="1800" spc="-1" strike="noStrike">
                <a:solidFill>
                  <a:srgbClr val="ffffff"/>
                </a:solidFill>
                <a:latin typeface="Arial"/>
              </a:rPr>
              <a:t>–Xgcpolicy:gencon</a:t>
            </a:r>
            <a:r>
              <a:rPr b="0" lang="en-US" sz="1800" spc="-1" strike="noStrike">
                <a:solidFill>
                  <a:srgbClr val="ffffff"/>
                </a:solidFill>
                <a:latin typeface="Arial"/>
              </a:rPr>
              <a:t> option</a:t>
            </a:r>
            <a:endParaRPr b="0" lang="en-US" sz="1800" spc="-1" strike="noStrike">
              <a:solidFill>
                <a:srgbClr val="ffffff"/>
              </a:solidFill>
              <a:latin typeface="Arial"/>
            </a:endParaRPr>
          </a:p>
        </p:txBody>
      </p:sp>
      <p:sp>
        <p:nvSpPr>
          <p:cNvPr id="117" name="PlaceHolder 2"/>
          <p:cNvSpPr>
            <a:spLocks noGrp="1"/>
          </p:cNvSpPr>
          <p:nvPr>
            <p:ph type="title"/>
          </p:nvPr>
        </p:nvSpPr>
        <p:spPr>
          <a:xfrm>
            <a:off x="685800" y="75960"/>
            <a:ext cx="77724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Other Fea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76320"/>
            <a:ext cx="8534160" cy="7617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 3.1.2 / OSGI Runtime</a:t>
            </a:r>
            <a:endParaRPr b="0" lang="en-US" sz="4400" spc="-1" strike="noStrike">
              <a:solidFill>
                <a:srgbClr val="ffffff"/>
              </a:solidFill>
              <a:latin typeface="Arial"/>
            </a:endParaRPr>
          </a:p>
        </p:txBody>
      </p:sp>
      <p:sp>
        <p:nvSpPr>
          <p:cNvPr id="119" name="PlaceHolder 2"/>
          <p:cNvSpPr>
            <a:spLocks noGrp="1"/>
          </p:cNvSpPr>
          <p:nvPr>
            <p:ph/>
          </p:nvPr>
        </p:nvSpPr>
        <p:spPr>
          <a:xfrm>
            <a:off x="228240" y="838080"/>
            <a:ext cx="8534520" cy="60199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6000"/>
          </a:bodyPr>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of Eclipse plugins with RAD!</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is an Eclipse plugin!</a:t>
            </a:r>
            <a:endParaRPr b="0"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plugin.xml in com.ibm.ws.runtime_6.1.0.jar file in /plugins directory</a:t>
            </a:r>
            <a:endParaRPr b="0" lang="en-US" sz="20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dynamic loading and versioning of components to improve memory usage</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dynamic extension of extension points</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lipse registry is used to load WAS runtime components</a:t>
            </a:r>
            <a:endParaRPr b="0"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see more later</a:t>
            </a:r>
            <a:endParaRPr b="0" lang="en-US" sz="20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ervice registration</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in.xml or MANIFEST.MF control loading and extension</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 WAS installation has a /plugins directory</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of loading is via config.ini file in /configuration direct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60"/>
            <a:ext cx="8534160" cy="7621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 3.1.2 / OSGI Runtime (2)</a:t>
            </a:r>
            <a:endParaRPr b="0" lang="en-US" sz="4400" spc="-1" strike="noStrike">
              <a:solidFill>
                <a:srgbClr val="ffffff"/>
              </a:solidFill>
              <a:latin typeface="Arial"/>
            </a:endParaRPr>
          </a:p>
        </p:txBody>
      </p:sp>
      <p:graphicFrame>
        <p:nvGraphicFramePr>
          <p:cNvPr id="121" name=""/>
          <p:cNvGraphicFramePr/>
          <p:nvPr/>
        </p:nvGraphicFramePr>
        <p:xfrm>
          <a:off x="685800" y="995400"/>
          <a:ext cx="8077320" cy="5710320"/>
        </p:xfrm>
        <a:graphic>
          <a:graphicData uri="http://schemas.openxmlformats.org/presentationml/2006/ole">
            <p:oleObj progId="Word.Document.12" r:id="rId2" spid="">
              <p:embed/>
              <p:pic>
                <p:nvPicPr>
                  <p:cNvPr id="122" name="" descr=""/>
                  <p:cNvPicPr/>
                  <p:nvPr/>
                </p:nvPicPr>
                <p:blipFill>
                  <a:blip r:embed="rId3"/>
                  <a:stretch/>
                </p:blipFill>
                <p:spPr>
                  <a:xfrm>
                    <a:off x="685800" y="995400"/>
                    <a:ext cx="8077320" cy="571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60"/>
            <a:ext cx="8534160" cy="7621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 3.1.2 / OSGI Runtime (3)</a:t>
            </a:r>
            <a:endParaRPr b="0" lang="en-US" sz="4400" spc="-1" strike="noStrike">
              <a:solidFill>
                <a:srgbClr val="ffffff"/>
              </a:solidFill>
              <a:latin typeface="Arial"/>
            </a:endParaRPr>
          </a:p>
        </p:txBody>
      </p:sp>
      <p:sp>
        <p:nvSpPr>
          <p:cNvPr id="124" name="PlaceHolder 2"/>
          <p:cNvSpPr>
            <a:spLocks noGrp="1"/>
          </p:cNvSpPr>
          <p:nvPr>
            <p:ph/>
          </p:nvPr>
        </p:nvSpPr>
        <p:spPr>
          <a:xfrm>
            <a:off x="228600" y="838080"/>
            <a:ext cx="8686800" cy="60199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8000"/>
          </a:bodyPr>
          <a:p>
            <a:pPr marL="335880" indent="-3358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the “Official Eclipse 3.0 FAQs” the simplest Eclipse application consists of:</a:t>
            </a:r>
            <a:endParaRPr b="0" lang="en-US" sz="2400" spc="-1" strike="noStrike">
              <a:solidFill>
                <a:srgbClr val="ffffff"/>
              </a:solidFill>
              <a:latin typeface="Arial"/>
            </a:endParaRPr>
          </a:p>
          <a:p>
            <a:pPr marL="3358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artup.jar file that contains a single class responsible for starting the Eclipse platform via a plugin, usually org.eclipse.core.runtime_XXX.jar. </a:t>
            </a:r>
            <a:endParaRPr b="0" lang="en-US" sz="2000" spc="-1" strike="noStrike">
              <a:solidFill>
                <a:srgbClr val="ffffff"/>
              </a:solidFill>
              <a:latin typeface="Arial"/>
            </a:endParaRPr>
          </a:p>
          <a:p>
            <a:pPr lvl="2" marL="1119960" indent="-22392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Eclipse 3.1.2, and therefore WAS, the launcher class is org.eclipse.core.launcher.Main with most of the work performed in a method called “basicRun”. </a:t>
            </a:r>
            <a:endParaRPr b="0" lang="en-US" sz="1800" spc="-1" strike="noStrike">
              <a:solidFill>
                <a:srgbClr val="ffffff"/>
              </a:solidFill>
              <a:latin typeface="Arial"/>
            </a:endParaRPr>
          </a:p>
          <a:p>
            <a:pPr lvl="2" marL="1119960" indent="-22392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s the security, the paths, and the configuration before performing the main Eclipse initialisation by loading plugins named in the configuration config.ini file. </a:t>
            </a:r>
            <a:endParaRPr b="0" lang="en-US" sz="1800" spc="-1" strike="noStrike">
              <a:solidFill>
                <a:srgbClr val="ffffff"/>
              </a:solidFill>
              <a:latin typeface="Arial"/>
            </a:endParaRPr>
          </a:p>
          <a:p>
            <a:pPr lvl="2" marL="1119960" indent="-22392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s a lot of OSGI specific configuration checks.</a:t>
            </a:r>
            <a:endParaRPr b="0" lang="en-US" sz="1800" spc="-1" strike="noStrike">
              <a:solidFill>
                <a:srgbClr val="ffffff"/>
              </a:solidFill>
              <a:latin typeface="Arial"/>
            </a:endParaRPr>
          </a:p>
          <a:p>
            <a:pPr marL="3358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nfigurator plugin; org.eclipse.update.configurator by default.</a:t>
            </a:r>
            <a:endParaRPr b="0" lang="en-US" sz="2000" spc="-1" strike="noStrike">
              <a:solidFill>
                <a:srgbClr val="ffffff"/>
              </a:solidFill>
              <a:latin typeface="Arial"/>
            </a:endParaRPr>
          </a:p>
          <a:p>
            <a:pPr marL="3358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g.eclipse.core.runtime plugin </a:t>
            </a:r>
            <a:endParaRPr b="0" lang="en-US" sz="2000" spc="-1" strike="noStrike">
              <a:solidFill>
                <a:srgbClr val="ffffff"/>
              </a:solidFill>
              <a:latin typeface="Arial"/>
            </a:endParaRPr>
          </a:p>
          <a:p>
            <a:pPr lvl="2" marL="1119960" indent="-22392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ible for enumerating the plugin.xml files for the plugins in the /plugins directory and setting up the extension registry</a:t>
            </a:r>
            <a:endParaRPr b="0" lang="en-US" sz="1800" spc="-1" strike="noStrike">
              <a:solidFill>
                <a:srgbClr val="ffffff"/>
              </a:solidFill>
              <a:latin typeface="Arial"/>
            </a:endParaRPr>
          </a:p>
          <a:p>
            <a:pPr marL="3358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plugins to support the platform – now provided by the three org.eclipse.osgi (org.eclipse.osgi, org.eclipse.osgi.util, and org.eclipse.osgi.services) (now Equinox) plugi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e will cover</a:t>
            </a:r>
            <a:endParaRPr b="0" lang="en-US" sz="4400" spc="-1" strike="noStrike">
              <a:solidFill>
                <a:srgbClr val="ffffff"/>
              </a:solidFill>
              <a:latin typeface="Arial"/>
            </a:endParaRPr>
          </a:p>
        </p:txBody>
      </p:sp>
      <p:sp>
        <p:nvSpPr>
          <p:cNvPr id="86" name="PlaceHolder 2"/>
          <p:cNvSpPr>
            <a:spLocks noGrp="1"/>
          </p:cNvSpPr>
          <p:nvPr>
            <p:ph/>
          </p:nvPr>
        </p:nvSpPr>
        <p:spPr>
          <a:xfrm>
            <a:off x="457200" y="1218960"/>
            <a:ext cx="8229600" cy="51814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8000"/>
          </a:bodyPr>
          <a:p>
            <a:pPr marL="335880" indent="-3358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key layers of the WAS environment</a:t>
            </a:r>
            <a:endParaRPr b="0" lang="en-US" sz="28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J9 Java5 JVM</a:t>
            </a:r>
            <a:endParaRPr b="0" lang="en-US" sz="24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lipse 3.1.2 OSGI Runtime and Component Model</a:t>
            </a:r>
            <a:endParaRPr b="0" lang="en-US" sz="24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WAS Runtime that WAS services extend</a:t>
            </a: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Configuration and Components</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Startup</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examples AIX 5.3/POWER is used</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examples apply to other machines but not 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76320"/>
            <a:ext cx="6781680" cy="7617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a:t>
            </a:r>
            <a:endParaRPr b="0" lang="en-US" sz="4400" spc="-1" strike="noStrike">
              <a:solidFill>
                <a:srgbClr val="ffffff"/>
              </a:solidFill>
              <a:latin typeface="Arial"/>
            </a:endParaRPr>
          </a:p>
        </p:txBody>
      </p:sp>
      <p:sp>
        <p:nvSpPr>
          <p:cNvPr id="126" name="PlaceHolder 2"/>
          <p:cNvSpPr>
            <a:spLocks noGrp="1"/>
          </p:cNvSpPr>
          <p:nvPr>
            <p:ph/>
          </p:nvPr>
        </p:nvSpPr>
        <p:spPr>
          <a:xfrm>
            <a:off x="76320" y="10663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in the com.ibm.ws.runtime_6.1.0.jar file and the plugin.xml or MANIFEST.MF file to see how WAS and Eclipse/OSGI interac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xml is for Eclipse plugi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IFEST.MF is for OSGI bundles</a:t>
            </a:r>
            <a:endParaRPr b="0" lang="en-US" sz="2000" spc="-1" strike="noStrike">
              <a:solidFill>
                <a:srgbClr val="ffffff"/>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lipse plugins will move to OSGI bundles</a:t>
            </a:r>
            <a:endParaRPr b="0" lang="en-US" sz="2400" spc="-1" strike="noStrike">
              <a:solidFill>
                <a:srgbClr val="ffffff"/>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look at the new osgiConsole.sh command for WAS</a:t>
            </a:r>
            <a:endParaRPr b="0" lang="en-US" sz="2400" spc="-1" strike="noStrike">
              <a:solidFill>
                <a:srgbClr val="ffffff"/>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WAS command line and startu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clipse runtime starts first and then loads the WAS runtime</a:t>
            </a:r>
            <a:endParaRPr b="0" lang="en-US" sz="2000" spc="-1" strike="noStrike">
              <a:solidFill>
                <a:srgbClr val="ffffff"/>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OSGI “bundle” that is a runnable application has an </a:t>
            </a:r>
            <a:r>
              <a:rPr b="1" lang="en-US" sz="2400" spc="-1" strike="noStrike">
                <a:solidFill>
                  <a:srgbClr val="ffffff"/>
                </a:solidFill>
                <a:latin typeface="Arial"/>
              </a:rPr>
              <a:t>Activator</a:t>
            </a:r>
            <a:r>
              <a:rPr b="0" lang="en-US" sz="2400" spc="-1" strike="noStrike">
                <a:solidFill>
                  <a:srgbClr val="ffffff"/>
                </a:solidFill>
                <a:latin typeface="Arial"/>
              </a:rPr>
              <a:t> class that supports the “start” and “stop” methods to hook the startup and shutdown of the “applic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S it is </a:t>
            </a:r>
            <a:r>
              <a:rPr b="1" lang="en-US" sz="2000" spc="-1" strike="noStrike">
                <a:solidFill>
                  <a:srgbClr val="ffffff"/>
                </a:solidFill>
                <a:latin typeface="Arial"/>
              </a:rPr>
              <a:t>com.ibm.ws.runtime.WsServ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75960"/>
            <a:ext cx="746784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 (2)</a:t>
            </a:r>
            <a:endParaRPr b="0" lang="en-US" sz="4400" spc="-1" strike="noStrike">
              <a:solidFill>
                <a:srgbClr val="ffffff"/>
              </a:solidFill>
              <a:latin typeface="Arial"/>
            </a:endParaRPr>
          </a:p>
        </p:txBody>
      </p:sp>
      <p:sp>
        <p:nvSpPr>
          <p:cNvPr id="128" name="PlaceHolder 2"/>
          <p:cNvSpPr>
            <a:spLocks noGrp="1"/>
          </p:cNvSpPr>
          <p:nvPr>
            <p:ph/>
          </p:nvPr>
        </p:nvSpPr>
        <p:spPr>
          <a:xfrm>
            <a:off x="76320" y="8377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7000"/>
          </a:bodyPr>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look at the </a:t>
            </a:r>
            <a:r>
              <a:rPr b="1" lang="en-US" sz="2000" spc="-1" strike="noStrike">
                <a:solidFill>
                  <a:srgbClr val="ffffff"/>
                </a:solidFill>
                <a:latin typeface="Arial"/>
              </a:rPr>
              <a:t>MANIFEST.MF</a:t>
            </a:r>
            <a:r>
              <a:rPr b="0" lang="en-US" sz="2000" spc="-1" strike="noStrike">
                <a:solidFill>
                  <a:srgbClr val="ffffff"/>
                </a:solidFill>
                <a:latin typeface="Arial"/>
              </a:rPr>
              <a:t> file that is part of the </a:t>
            </a:r>
            <a:r>
              <a:rPr b="1" lang="en-US" sz="2000" spc="-1" strike="noStrike">
                <a:solidFill>
                  <a:srgbClr val="ffffff"/>
                </a:solidFill>
                <a:latin typeface="Arial"/>
              </a:rPr>
              <a:t>com.ibm.ws.runtime_6.1.0.jar</a:t>
            </a:r>
            <a:r>
              <a:rPr b="0" lang="en-US" sz="2000" spc="-1" strike="noStrike">
                <a:solidFill>
                  <a:srgbClr val="ffffff"/>
                </a:solidFill>
                <a:latin typeface="Arial"/>
              </a:rPr>
              <a:t> file we see the startup code is in a class called </a:t>
            </a:r>
            <a:r>
              <a:rPr b="1" lang="en-US" sz="2000" spc="-1" strike="noStrike">
                <a:solidFill>
                  <a:srgbClr val="ffffff"/>
                </a:solidFill>
                <a:latin typeface="Arial"/>
              </a:rPr>
              <a:t>com.ibm.ws.runtime.component.RuntimeBundleActivator</a:t>
            </a:r>
            <a:r>
              <a:rPr b="0" lang="en-US" sz="2000" spc="-1" strike="noStrike">
                <a:solidFill>
                  <a:srgbClr val="ffffff"/>
                </a:solidFill>
                <a:latin typeface="Arial"/>
              </a:rPr>
              <a:t>:</a:t>
            </a:r>
            <a:endParaRPr b="0" lang="en-US" sz="2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Activator: </a:t>
            </a:r>
            <a:r>
              <a:rPr b="1" lang="en-US" sz="1200" spc="-1" strike="noStrike">
                <a:solidFill>
                  <a:srgbClr val="ffffff"/>
                </a:solidFill>
                <a:latin typeface="Courier New"/>
              </a:rPr>
              <a:t>com.ibm.ws.runtime.component.RuntimeBundleActivator</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Localization: plugin</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ManifestVersion: 2</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Name: WS_Server</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SymbolicName: </a:t>
            </a:r>
            <a:r>
              <a:rPr b="1" lang="en-US" sz="1200" spc="-1" strike="noStrike">
                <a:solidFill>
                  <a:srgbClr val="ffffff"/>
                </a:solidFill>
                <a:latin typeface="Courier New"/>
              </a:rPr>
              <a:t>com.ibm.ws.runtime; singleton:=true</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Vendor: IBM</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Version: 6.1.0</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clipse-AutoStart: false</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J2EE-DeploymentFactory-Implementation-Class: com.ibm.ws.management.application.j2ee.deploy.spi.factories.DeploymentFactoryImpl</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Manifest-Version: 1.0</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quire-Bundle: com.ibm.ws.bootstrap; visibility:=reexport,</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rg.eclipse.jdt.core</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 server runtime is a singleton</a:t>
            </a:r>
            <a:endParaRPr b="0" lang="en-US" sz="2000" spc="-1" strike="noStrike">
              <a:solidFill>
                <a:srgbClr val="ffffff"/>
              </a:solidFill>
              <a:latin typeface="Arial"/>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Only one copy can be loaded, as would be expected for a single application server instance </a:t>
            </a:r>
            <a:endParaRPr b="0" lang="en-US" sz="18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bootstrap</a:t>
            </a:r>
            <a:r>
              <a:rPr b="0" lang="en-US" sz="2000" spc="-1" strike="noStrike">
                <a:solidFill>
                  <a:srgbClr val="ffffff"/>
                </a:solidFill>
                <a:latin typeface="Arial"/>
              </a:rPr>
              <a:t> bundle code is re-exported for use elsewhere</a:t>
            </a:r>
            <a:endParaRPr b="0" lang="en-US" sz="2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Java Developer tools (</a:t>
            </a:r>
            <a:r>
              <a:rPr b="1" lang="en-US" sz="2000" spc="-1" strike="noStrike">
                <a:solidFill>
                  <a:srgbClr val="ffffff"/>
                </a:solidFill>
                <a:latin typeface="Arial"/>
              </a:rPr>
              <a:t>org.eclipse.jdt.core</a:t>
            </a:r>
            <a:r>
              <a:rPr b="0" lang="en-US" sz="2000" spc="-1" strike="noStrike">
                <a:solidFill>
                  <a:srgbClr val="ffffff"/>
                </a:solidFill>
                <a:latin typeface="Arial"/>
              </a:rPr>
              <a:t>) are used within WAS itsel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75960"/>
            <a:ext cx="746784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 (3)</a:t>
            </a:r>
            <a:endParaRPr b="0" lang="en-US" sz="4400" spc="-1" strike="noStrike">
              <a:solidFill>
                <a:srgbClr val="ffffff"/>
              </a:solidFill>
              <a:latin typeface="Arial"/>
            </a:endParaRPr>
          </a:p>
        </p:txBody>
      </p:sp>
      <p:sp>
        <p:nvSpPr>
          <p:cNvPr id="130" name="PlaceHolder 2"/>
          <p:cNvSpPr>
            <a:spLocks noGrp="1"/>
          </p:cNvSpPr>
          <p:nvPr>
            <p:ph/>
          </p:nvPr>
        </p:nvSpPr>
        <p:spPr>
          <a:xfrm>
            <a:off x="76320" y="8377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use the strategy pattern for most of WAS so the interfaces exposed to the outside world usually are wrappers for other classes and interfaces. </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of the implementation for the </a:t>
            </a:r>
            <a:r>
              <a:rPr b="1" lang="en-US" sz="2000" spc="-1" strike="noStrike">
                <a:solidFill>
                  <a:srgbClr val="ffffff"/>
                </a:solidFill>
                <a:latin typeface="Arial"/>
              </a:rPr>
              <a:t>RuntimeBundleActivator</a:t>
            </a:r>
            <a:r>
              <a:rPr b="0" lang="en-US" sz="2000" spc="-1" strike="noStrike">
                <a:solidFill>
                  <a:srgbClr val="ffffff"/>
                </a:solidFill>
                <a:latin typeface="Arial"/>
              </a:rPr>
              <a:t> is in </a:t>
            </a:r>
            <a:r>
              <a:rPr b="1" lang="en-US" sz="2000" spc="-1" strike="noStrike">
                <a:solidFill>
                  <a:srgbClr val="ffffff"/>
                </a:solidFill>
                <a:latin typeface="Arial"/>
              </a:rPr>
              <a:t>com.ibm.wsspi.bootstrap.osgi.WsBundleActivator</a:t>
            </a:r>
            <a:r>
              <a:rPr b="0" lang="en-US" sz="2000" spc="-1" strike="noStrike">
                <a:solidFill>
                  <a:srgbClr val="ffffff"/>
                </a:solidFill>
                <a:latin typeface="Arial"/>
              </a:rPr>
              <a:t> in </a:t>
            </a:r>
            <a:r>
              <a:rPr b="1" lang="en-US" sz="2000" spc="-1" strike="noStrike">
                <a:solidFill>
                  <a:srgbClr val="ffffff"/>
                </a:solidFill>
                <a:latin typeface="Arial"/>
              </a:rPr>
              <a:t>com.ibm.ws.bootstrap_6.1.0.jar</a:t>
            </a:r>
            <a:r>
              <a:rPr b="0" lang="en-US" sz="2000" spc="-1" strike="noStrike">
                <a:solidFill>
                  <a:srgbClr val="ffffff"/>
                </a:solidFill>
                <a:latin typeface="Arial"/>
              </a:rPr>
              <a:t> as can be seen in its </a:t>
            </a:r>
            <a:r>
              <a:rPr b="1" lang="en-US" sz="2000" spc="-1" strike="noStrike">
                <a:solidFill>
                  <a:srgbClr val="ffffff"/>
                </a:solidFill>
                <a:latin typeface="Arial"/>
              </a:rPr>
              <a:t>MANIFEST.MF</a:t>
            </a:r>
            <a:r>
              <a:rPr b="0" lang="en-US" sz="2000" spc="-1" strike="noStrike">
                <a:solidFill>
                  <a:srgbClr val="ffffff"/>
                </a:solidFill>
                <a:latin typeface="Arial"/>
              </a:rPr>
              <a:t> file:</a:t>
            </a:r>
            <a:endParaRPr b="0" lang="en-US" sz="2000" spc="-1" strike="noStrike">
              <a:solidFill>
                <a:srgbClr val="ffffff"/>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Activator: </a:t>
            </a:r>
            <a:r>
              <a:rPr b="1" lang="en-US" sz="1200" spc="-1" strike="noStrike">
                <a:solidFill>
                  <a:srgbClr val="ffffff"/>
                </a:solidFill>
                <a:latin typeface="Courier New"/>
              </a:rPr>
              <a:t>com.ibm.wsspi.bootstrap.osgi.WsBundleActivator</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Localization: plugin</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ManifestVersion: 2</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Name: WebSpherer Bootstrap Plug-in</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SymbolicName: com.ibm.ws.bootstrap; singleton:=true</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Vendor: IBM</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Version: 6.1.0</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clipse-AutoStart: true</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Manifest-Version: 1.0</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mport-Package: org.eclipse.core.runtime,</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rg.osgi.framework</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xport-Package: com.ibm.ws.bootstrap,</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runtime.service.impl,</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spi.bootstrap,</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spi.bootstrap.osgi,</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spi.extension,</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spi.runtime.servic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75960"/>
            <a:ext cx="723888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 (4)</a:t>
            </a:r>
            <a:endParaRPr b="0" lang="en-US" sz="4400" spc="-1" strike="noStrike">
              <a:solidFill>
                <a:srgbClr val="ffffff"/>
              </a:solidFill>
              <a:latin typeface="Arial"/>
            </a:endParaRPr>
          </a:p>
        </p:txBody>
      </p:sp>
      <p:sp>
        <p:nvSpPr>
          <p:cNvPr id="132" name="PlaceHolder 2"/>
          <p:cNvSpPr>
            <a:spLocks noGrp="1"/>
          </p:cNvSpPr>
          <p:nvPr>
            <p:ph/>
          </p:nvPr>
        </p:nvSpPr>
        <p:spPr>
          <a:xfrm>
            <a:off x="76320" y="8377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bootstrap_6.1.0.jar</a:t>
            </a:r>
            <a:r>
              <a:rPr b="0" lang="en-US" sz="2000" spc="-1" strike="noStrike">
                <a:solidFill>
                  <a:srgbClr val="ffffff"/>
                </a:solidFill>
                <a:latin typeface="Arial"/>
              </a:rPr>
              <a:t> file that this </a:t>
            </a:r>
            <a:r>
              <a:rPr b="1" lang="en-US" sz="2000" spc="-1" strike="noStrike">
                <a:solidFill>
                  <a:srgbClr val="ffffff"/>
                </a:solidFill>
                <a:latin typeface="Arial"/>
              </a:rPr>
              <a:t>MANIFEST.MF</a:t>
            </a:r>
            <a:r>
              <a:rPr b="0" lang="en-US" sz="2000" spc="-1" strike="noStrike">
                <a:solidFill>
                  <a:srgbClr val="ffffff"/>
                </a:solidFill>
                <a:latin typeface="Arial"/>
              </a:rPr>
              <a:t> file comes from was mentioned in the </a:t>
            </a:r>
            <a:r>
              <a:rPr b="1" lang="en-US" sz="2000" spc="-1" strike="noStrike">
                <a:solidFill>
                  <a:srgbClr val="ffffff"/>
                </a:solidFill>
                <a:latin typeface="Arial"/>
              </a:rPr>
              <a:t>Require-Bundle</a:t>
            </a:r>
            <a:r>
              <a:rPr b="0" lang="en-US" sz="2000" spc="-1" strike="noStrike">
                <a:solidFill>
                  <a:srgbClr val="ffffff"/>
                </a:solidFill>
                <a:latin typeface="Arial"/>
              </a:rPr>
              <a:t> entry in the </a:t>
            </a:r>
            <a:r>
              <a:rPr b="1" lang="en-US" sz="2000" spc="-1" strike="noStrike">
                <a:solidFill>
                  <a:srgbClr val="ffffff"/>
                </a:solidFill>
                <a:latin typeface="Arial"/>
              </a:rPr>
              <a:t>MANIFEST.MF</a:t>
            </a:r>
            <a:r>
              <a:rPr b="0" lang="en-US" sz="2000" spc="-1" strike="noStrike">
                <a:solidFill>
                  <a:srgbClr val="ffffff"/>
                </a:solidFill>
                <a:latin typeface="Arial"/>
              </a:rPr>
              <a:t> file of the </a:t>
            </a:r>
            <a:r>
              <a:rPr b="1" lang="en-US" sz="2000" spc="-1" strike="noStrike">
                <a:solidFill>
                  <a:srgbClr val="ffffff"/>
                </a:solidFill>
                <a:latin typeface="Arial"/>
              </a:rPr>
              <a:t>com.ibm.ws.runtime_6.1.0.jar</a:t>
            </a:r>
            <a:r>
              <a:rPr b="0" lang="en-US" sz="2000" spc="-1" strike="noStrike">
                <a:solidFill>
                  <a:srgbClr val="ffffff"/>
                </a:solidFill>
                <a:latin typeface="Arial"/>
              </a:rPr>
              <a:t> file</a:t>
            </a:r>
            <a:endParaRPr b="0" lang="en-US" sz="20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a dependency so we can be sure the underlying code for the implementation is already loaded and available.</a:t>
            </a:r>
            <a:endParaRPr b="0" lang="en-US" sz="18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imple OSGI activator code implementation just registers and unregisters the bundle context with the WebSphere services registry. So what actually runs? The Eclipse applications registered in the </a:t>
            </a:r>
            <a:r>
              <a:rPr b="1" lang="en-US" sz="2000" spc="-1" strike="noStrike">
                <a:solidFill>
                  <a:srgbClr val="ffffff"/>
                </a:solidFill>
                <a:latin typeface="Arial"/>
              </a:rPr>
              <a:t>plugin.xml</a:t>
            </a:r>
            <a:r>
              <a:rPr b="0" lang="en-US" sz="2000" spc="-1" strike="noStrike">
                <a:solidFill>
                  <a:srgbClr val="ffffff"/>
                </a:solidFill>
                <a:latin typeface="Arial"/>
              </a:rPr>
              <a:t> files run.</a:t>
            </a:r>
            <a:endParaRPr b="0" lang="en-US" sz="20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look inside the </a:t>
            </a:r>
            <a:r>
              <a:rPr b="1" lang="en-US" sz="2000" spc="-1" strike="noStrike">
                <a:solidFill>
                  <a:srgbClr val="ffffff"/>
                </a:solidFill>
                <a:latin typeface="Arial"/>
              </a:rPr>
              <a:t>plugin.xml</a:t>
            </a:r>
            <a:r>
              <a:rPr b="0" lang="en-US" sz="2000" spc="-1" strike="noStrike">
                <a:solidFill>
                  <a:srgbClr val="ffffff"/>
                </a:solidFill>
                <a:latin typeface="Arial"/>
              </a:rPr>
              <a:t> file for </a:t>
            </a:r>
            <a:r>
              <a:rPr b="1" lang="en-US" sz="2000" spc="-1" strike="noStrike">
                <a:solidFill>
                  <a:srgbClr val="ffffff"/>
                </a:solidFill>
                <a:latin typeface="Arial"/>
              </a:rPr>
              <a:t>com.ibm.ws.bootstrap_6.1.0.jar</a:t>
            </a:r>
            <a:r>
              <a:rPr b="0" lang="en-US" sz="2000" spc="-1" strike="noStrike">
                <a:solidFill>
                  <a:srgbClr val="ffffff"/>
                </a:solidFill>
                <a:latin typeface="Arial"/>
              </a:rPr>
              <a:t> we find another </a:t>
            </a:r>
            <a:r>
              <a:rPr b="1" lang="en-US" sz="2000" spc="-1" strike="noStrike">
                <a:solidFill>
                  <a:srgbClr val="ffffff"/>
                </a:solidFill>
                <a:latin typeface="Arial"/>
              </a:rPr>
              <a:t>WSLauncher</a:t>
            </a:r>
            <a:r>
              <a:rPr b="0" lang="en-US" sz="2000" spc="-1" strike="noStrike">
                <a:solidFill>
                  <a:srgbClr val="ffffff"/>
                </a:solidFill>
                <a:latin typeface="Arial"/>
              </a:rPr>
              <a:t> class is referenced that sets up the Eclipse registry environment for WAS. This was seen in our stack trace earler, after the </a:t>
            </a:r>
            <a:r>
              <a:rPr b="1" lang="en-US" sz="2000" spc="-1" strike="noStrike">
                <a:solidFill>
                  <a:srgbClr val="ffffff"/>
                </a:solidFill>
                <a:latin typeface="Arial"/>
              </a:rPr>
              <a:t>EclipseStarter</a:t>
            </a:r>
            <a:r>
              <a:rPr b="0" lang="en-US" sz="2000" spc="-1" strike="noStrike">
                <a:solidFill>
                  <a:srgbClr val="ffffff"/>
                </a:solidFill>
                <a:latin typeface="Arial"/>
              </a:rPr>
              <a:t> and </a:t>
            </a:r>
            <a:r>
              <a:rPr b="1" lang="en-US" sz="2000" spc="-1" strike="noStrike">
                <a:solidFill>
                  <a:srgbClr val="ffffff"/>
                </a:solidFill>
                <a:latin typeface="Arial"/>
              </a:rPr>
              <a:t>PlatformActivator</a:t>
            </a:r>
            <a:r>
              <a:rPr b="0" lang="en-US" sz="2000" spc="-1" strike="noStrike">
                <a:solidFill>
                  <a:srgbClr val="ffffff"/>
                </a:solidFill>
                <a:latin typeface="Arial"/>
              </a:rPr>
              <a:t> classes were brought into play.</a:t>
            </a:r>
            <a:endParaRPr b="0" lang="en-US" sz="20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t;extension</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WSLauncher"</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oint="org.eclipse.core.runtime.applications"&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application&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run class="com.ibm.wsspi.bootstrap.WSLauncher"/&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application&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extension&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75960"/>
            <a:ext cx="7162920" cy="5331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 (5)</a:t>
            </a:r>
            <a:endParaRPr b="0" lang="en-US" sz="4400" spc="-1" strike="noStrike">
              <a:solidFill>
                <a:srgbClr val="ffffff"/>
              </a:solidFill>
              <a:latin typeface="Arial"/>
            </a:endParaRPr>
          </a:p>
        </p:txBody>
      </p:sp>
      <p:sp>
        <p:nvSpPr>
          <p:cNvPr id="134" name="PlaceHolder 2"/>
          <p:cNvSpPr>
            <a:spLocks noGrp="1"/>
          </p:cNvSpPr>
          <p:nvPr>
            <p:ph/>
          </p:nvPr>
        </p:nvSpPr>
        <p:spPr>
          <a:xfrm>
            <a:off x="0" y="533520"/>
            <a:ext cx="9067680" cy="579096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89000"/>
          </a:bodyPr>
          <a:p>
            <a:pPr marL="305280" indent="-3052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extension point tells us that </a:t>
            </a:r>
            <a:r>
              <a:rPr b="1" lang="en-US" sz="2000" spc="-1" strike="noStrike">
                <a:solidFill>
                  <a:srgbClr val="ffffff"/>
                </a:solidFill>
                <a:latin typeface="Arial"/>
              </a:rPr>
              <a:t>com.ibm.wsspi.bootstrap.WSLauncher</a:t>
            </a:r>
            <a:r>
              <a:rPr b="0" lang="en-US" sz="2000" spc="-1" strike="noStrike">
                <a:solidFill>
                  <a:srgbClr val="ffffff"/>
                </a:solidFill>
                <a:latin typeface="Arial"/>
              </a:rPr>
              <a:t> is designed to be launched as an Eclipse application by the runtime itself</a:t>
            </a:r>
            <a:endParaRPr b="0" lang="en-US" sz="2000" spc="-1" strike="noStrike">
              <a:solidFill>
                <a:srgbClr val="ffffff"/>
              </a:solidFill>
              <a:latin typeface="Arial"/>
            </a:endParaRPr>
          </a:p>
          <a:p>
            <a:pPr lvl="1" marL="660960" indent="-2541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ds the Eclipse </a:t>
            </a:r>
            <a:r>
              <a:rPr b="1" i="1" lang="en-US" sz="1600" spc="-1" strike="noStrike">
                <a:solidFill>
                  <a:srgbClr val="ffffff"/>
                </a:solidFill>
                <a:latin typeface="Arial"/>
              </a:rPr>
              <a:t>IPlatformRunnable</a:t>
            </a:r>
            <a:r>
              <a:rPr b="0" lang="en-US" sz="1600" spc="-1" strike="noStrike">
                <a:solidFill>
                  <a:srgbClr val="ffffff"/>
                </a:solidFill>
                <a:latin typeface="Arial"/>
              </a:rPr>
              <a:t> interface allowing execution of the “run” method.</a:t>
            </a:r>
            <a:endParaRPr b="0" lang="en-US" sz="1600" spc="-1" strike="noStrike">
              <a:solidFill>
                <a:srgbClr val="ffffff"/>
              </a:solidFill>
              <a:latin typeface="Arial"/>
            </a:endParaRPr>
          </a:p>
          <a:p>
            <a:pPr marL="3052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05280" indent="-3052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allows individual Eclipse applications to run as separate thread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ll extend the </a:t>
            </a:r>
            <a:r>
              <a:rPr b="1" lang="en-US" sz="1800" spc="-1" strike="noStrike">
                <a:solidFill>
                  <a:srgbClr val="ffffff"/>
                </a:solidFill>
                <a:latin typeface="Arial"/>
              </a:rPr>
              <a:t>org.eclipse.core.runtime.applications</a:t>
            </a:r>
            <a:r>
              <a:rPr b="0" lang="en-US" sz="1800" spc="-1" strike="noStrike">
                <a:solidFill>
                  <a:srgbClr val="ffffff"/>
                </a:solidFill>
                <a:latin typeface="Arial"/>
              </a:rPr>
              <a:t> extension point. </a:t>
            </a:r>
            <a:endParaRPr b="0" lang="en-US" sz="1800" spc="-1" strike="noStrike">
              <a:solidFill>
                <a:srgbClr val="ffffff"/>
              </a:solidFill>
              <a:latin typeface="Arial"/>
            </a:endParaRPr>
          </a:p>
          <a:p>
            <a:pPr marL="3052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05280" indent="-3052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umerating the extensions in the internal Eclipse platform registry shows  what WAS runs as distinct Eclipse applications:</a:t>
            </a:r>
            <a:endParaRPr b="0" lang="en-US" sz="2000" spc="-1" strike="noStrike">
              <a:solidFill>
                <a:srgbClr val="ffffff"/>
              </a:solidFill>
              <a:latin typeface="Arial"/>
            </a:endParaRPr>
          </a:p>
          <a:p>
            <a:pPr marL="3052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org.eclipse.core.runtime.applications</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Extension:com.ibm.ws.bootstrap.WSLauncher</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xtension:com.ibm.ws.debug.osgi.StartConsole</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xtension:com.ibm.ws.debug.osgi.Noop</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Extension:com.ibm.ws.runtime.startWsServer</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xtension:org.eclipse.ant.core.antRunner</a:t>
            </a:r>
            <a:endParaRPr b="0" lang="en-US" sz="1200" spc="-1" strike="noStrike">
              <a:solidFill>
                <a:srgbClr val="ffffff"/>
              </a:solidFill>
              <a:latin typeface="Arial"/>
            </a:endParaRPr>
          </a:p>
          <a:p>
            <a:pPr marL="3052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05280" indent="-3052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bootstrap.WSLauncher</a:t>
            </a:r>
            <a:r>
              <a:rPr b="0" lang="en-US" sz="2000" spc="-1" strike="noStrike">
                <a:solidFill>
                  <a:srgbClr val="ffffff"/>
                </a:solidFill>
                <a:latin typeface="Arial"/>
              </a:rPr>
              <a:t> and </a:t>
            </a:r>
            <a:r>
              <a:rPr b="1" lang="en-US" sz="2000" spc="-1" strike="noStrike">
                <a:solidFill>
                  <a:srgbClr val="ff0000"/>
                </a:solidFill>
                <a:latin typeface="Arial"/>
              </a:rPr>
              <a:t>com.ibm.ws.runtime.startWsServer</a:t>
            </a:r>
            <a:r>
              <a:rPr b="0" lang="en-US" sz="2000" spc="-1" strike="noStrike">
                <a:solidFill>
                  <a:srgbClr val="ffffff"/>
                </a:solidFill>
                <a:latin typeface="Arial"/>
              </a:rPr>
              <a:t> classes are key to WAS startup.</a:t>
            </a:r>
            <a:r>
              <a:rPr b="0" lang="en-US"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60960" indent="-254160">
              <a:lnSpc>
                <a:spcPct val="90000"/>
              </a:lnSpc>
              <a:spcBef>
                <a:spcPts val="499"/>
              </a:spcBef>
              <a:buClr>
                <a:srgbClr val="fc15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1518"/>
                </a:solidFill>
                <a:latin typeface="Arial"/>
              </a:rPr>
              <a:t>startWsServer</a:t>
            </a:r>
            <a:r>
              <a:rPr b="0" lang="en-US" sz="2000" spc="-1" strike="noStrike">
                <a:solidFill>
                  <a:srgbClr val="ffffff"/>
                </a:solidFill>
                <a:latin typeface="Arial"/>
              </a:rPr>
              <a:t>, due to the strategy pattern implementation, uses code from the </a:t>
            </a:r>
            <a:r>
              <a:rPr b="1" lang="en-US" sz="2000" spc="-1" strike="noStrike">
                <a:solidFill>
                  <a:srgbClr val="ff0000"/>
                </a:solidFill>
                <a:latin typeface="Arial"/>
              </a:rPr>
              <a:t>com.ibm.ws.runtime.WsServerImpl</a:t>
            </a:r>
            <a:r>
              <a:rPr b="0" lang="en-US" sz="2000" spc="-1" strike="noStrike">
                <a:solidFill>
                  <a:srgbClr val="ffffff"/>
                </a:solidFill>
                <a:latin typeface="Arial"/>
              </a:rPr>
              <a:t> class that </a:t>
            </a:r>
            <a:endParaRPr b="0" lang="en-US" sz="2000" spc="-1" strike="noStrike">
              <a:solidFill>
                <a:srgbClr val="ffffff"/>
              </a:solidFill>
              <a:latin typeface="Arial"/>
            </a:endParaRPr>
          </a:p>
          <a:p>
            <a:pPr lvl="2" marL="1017000" indent="-2034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s the containers within WAS</a:t>
            </a:r>
            <a:endParaRPr b="0" lang="en-US" sz="1800" spc="-1" strike="noStrike">
              <a:solidFill>
                <a:srgbClr val="ffffff"/>
              </a:solidFill>
              <a:latin typeface="Arial"/>
            </a:endParaRPr>
          </a:p>
          <a:p>
            <a:pPr lvl="2" marL="1017000" indent="-2034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s platform specific decisions to configure the environment</a:t>
            </a:r>
            <a:endParaRPr b="0" lang="en-US" sz="1800" spc="-1" strike="noStrike">
              <a:solidFill>
                <a:srgbClr val="ffffff"/>
              </a:solidFill>
              <a:latin typeface="Arial"/>
            </a:endParaRPr>
          </a:p>
          <a:p>
            <a:pPr lvl="1" marL="66096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05280" indent="-3052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ove applications extend the </a:t>
            </a:r>
            <a:r>
              <a:rPr b="1" lang="en-US" sz="2000" spc="-1" strike="noStrike">
                <a:solidFill>
                  <a:srgbClr val="ffffff"/>
                </a:solidFill>
                <a:latin typeface="Arial"/>
              </a:rPr>
              <a:t>org.eclipse.core.runtime.applications </a:t>
            </a:r>
            <a:r>
              <a:rPr b="0" lang="en-US" sz="2000" spc="-1" strike="noStrike">
                <a:solidFill>
                  <a:srgbClr val="ffffff"/>
                </a:solidFill>
                <a:latin typeface="Arial"/>
              </a:rPr>
              <a:t>extension point to run on the base Eclipse platfor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a:t>
            </a:r>
            <a:endParaRPr b="0" lang="en-US" sz="4400" spc="-1" strike="noStrike">
              <a:solidFill>
                <a:srgbClr val="ffffff"/>
              </a:solidFill>
              <a:latin typeface="Arial"/>
            </a:endParaRPr>
          </a:p>
        </p:txBody>
      </p:sp>
      <p:graphicFrame>
        <p:nvGraphicFramePr>
          <p:cNvPr id="136" name=""/>
          <p:cNvGraphicFramePr/>
          <p:nvPr/>
        </p:nvGraphicFramePr>
        <p:xfrm>
          <a:off x="380880" y="701640"/>
          <a:ext cx="8001000" cy="6004080"/>
        </p:xfrm>
        <a:graphic>
          <a:graphicData uri="http://schemas.openxmlformats.org/presentationml/2006/ole">
            <p:oleObj progId="Word.Document.12" r:id="rId2" spid="">
              <p:embed/>
              <p:pic>
                <p:nvPicPr>
                  <p:cNvPr id="137" name="" descr=""/>
                  <p:cNvPicPr/>
                  <p:nvPr/>
                </p:nvPicPr>
                <p:blipFill>
                  <a:blip r:embed="rId3"/>
                  <a:stretch/>
                </p:blipFill>
                <p:spPr>
                  <a:xfrm>
                    <a:off x="380880" y="701640"/>
                    <a:ext cx="8001000" cy="600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2)</a:t>
            </a:r>
            <a:endParaRPr b="0" lang="en-US" sz="4400" spc="-1" strike="noStrike">
              <a:solidFill>
                <a:srgbClr val="ffffff"/>
              </a:solidFill>
              <a:latin typeface="Arial"/>
            </a:endParaRPr>
          </a:p>
        </p:txBody>
      </p:sp>
      <p:graphicFrame>
        <p:nvGraphicFramePr>
          <p:cNvPr id="139" name=""/>
          <p:cNvGraphicFramePr/>
          <p:nvPr/>
        </p:nvGraphicFramePr>
        <p:xfrm>
          <a:off x="762120" y="609480"/>
          <a:ext cx="7238880" cy="5432400"/>
        </p:xfrm>
        <a:graphic>
          <a:graphicData uri="http://schemas.openxmlformats.org/presentationml/2006/ole">
            <p:oleObj progId="Word.Document.12" r:id="rId2" spid="">
              <p:embed/>
              <p:pic>
                <p:nvPicPr>
                  <p:cNvPr id="140" name="" descr=""/>
                  <p:cNvPicPr/>
                  <p:nvPr/>
                </p:nvPicPr>
                <p:blipFill>
                  <a:blip r:embed="rId3"/>
                  <a:stretch/>
                </p:blipFill>
                <p:spPr>
                  <a:xfrm>
                    <a:off x="762120" y="609480"/>
                    <a:ext cx="7238880" cy="5432400"/>
                  </a:xfrm>
                  <a:prstGeom prst="rect">
                    <a:avLst/>
                  </a:prstGeom>
                  <a:ln w="0">
                    <a:noFill/>
                  </a:ln>
                </p:spPr>
              </p:pic>
            </p:oleObj>
          </a:graphicData>
        </a:graphic>
      </p:graphicFrame>
      <p:sp>
        <p:nvSpPr>
          <p:cNvPr id="141" name=""/>
          <p:cNvSpPr/>
          <p:nvPr/>
        </p:nvSpPr>
        <p:spPr>
          <a:xfrm>
            <a:off x="152280" y="6095880"/>
            <a:ext cx="8763120" cy="65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figuration is in server.xml and plugin.xml</a:t>
            </a:r>
            <a:endParaRPr b="0" lang="en-US" sz="2000" spc="-1" strike="noStrike">
              <a:solidFill>
                <a:srgbClr val="ffffff"/>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5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derling runtime uses thread pools and chains of transport channe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3)</a:t>
            </a:r>
            <a:endParaRPr b="0" lang="en-US" sz="4400" spc="-1" strike="noStrike">
              <a:solidFill>
                <a:srgbClr val="ffffff"/>
              </a:solidFill>
              <a:latin typeface="Arial"/>
            </a:endParaRPr>
          </a:p>
        </p:txBody>
      </p:sp>
      <p:graphicFrame>
        <p:nvGraphicFramePr>
          <p:cNvPr id="143" name=""/>
          <p:cNvGraphicFramePr/>
          <p:nvPr/>
        </p:nvGraphicFramePr>
        <p:xfrm>
          <a:off x="457200" y="660240"/>
          <a:ext cx="8077320" cy="6061320"/>
        </p:xfrm>
        <a:graphic>
          <a:graphicData uri="http://schemas.openxmlformats.org/presentationml/2006/ole">
            <p:oleObj progId="Word.Document.12" r:id="rId2" spid="">
              <p:embed/>
              <p:pic>
                <p:nvPicPr>
                  <p:cNvPr id="144" name="" descr=""/>
                  <p:cNvPicPr/>
                  <p:nvPr/>
                </p:nvPicPr>
                <p:blipFill>
                  <a:blip r:embed="rId3"/>
                  <a:stretch/>
                </p:blipFill>
                <p:spPr>
                  <a:xfrm>
                    <a:off x="457200" y="660240"/>
                    <a:ext cx="8077320" cy="606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4)</a:t>
            </a:r>
            <a:endParaRPr b="0" lang="en-US" sz="4400" spc="-1" strike="noStrike">
              <a:solidFill>
                <a:srgbClr val="ffffff"/>
              </a:solidFill>
              <a:latin typeface="Arial"/>
            </a:endParaRPr>
          </a:p>
        </p:txBody>
      </p:sp>
      <p:sp>
        <p:nvSpPr>
          <p:cNvPr id="146" name="PlaceHolder 2"/>
          <p:cNvSpPr>
            <a:spLocks noGrp="1"/>
          </p:cNvSpPr>
          <p:nvPr>
            <p:ph/>
          </p:nvPr>
        </p:nvSpPr>
        <p:spPr>
          <a:xfrm>
            <a:off x="0" y="8377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details are all held in the </a:t>
            </a:r>
            <a:r>
              <a:rPr b="1" lang="en-US" sz="2000" spc="-1" strike="noStrike">
                <a:solidFill>
                  <a:srgbClr val="ffffff"/>
                </a:solidFill>
                <a:latin typeface="Arial"/>
              </a:rPr>
              <a:t>com.ibm.ws.runtime_6.1.0.jar</a:t>
            </a:r>
            <a:r>
              <a:rPr b="0" lang="en-US" sz="2000" spc="-1" strike="noStrike">
                <a:solidFill>
                  <a:srgbClr val="ffffff"/>
                </a:solidFill>
                <a:latin typeface="Arial"/>
              </a:rPr>
              <a:t> plugin in the </a:t>
            </a:r>
            <a:r>
              <a:rPr b="1" lang="en-US" sz="2000" spc="-1" strike="noStrike">
                <a:solidFill>
                  <a:srgbClr val="ffffff"/>
                </a:solidFill>
                <a:latin typeface="Arial"/>
              </a:rPr>
              <a:t>plugin.xml</a:t>
            </a:r>
            <a:r>
              <a:rPr b="0" lang="en-US" sz="2000" spc="-1" strike="noStrike">
                <a:solidFill>
                  <a:srgbClr val="ffffff"/>
                </a:solidFill>
                <a:latin typeface="Arial"/>
              </a:rPr>
              <a:t> fil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e runtime services identified by the extension point </a:t>
            </a:r>
            <a:r>
              <a:rPr b="1" lang="en-US" sz="2000" spc="-1" strike="noStrike">
                <a:solidFill>
                  <a:srgbClr val="ffffff"/>
                </a:solidFill>
                <a:latin typeface="Arial"/>
              </a:rPr>
              <a:t>"com.ibm.wsspi.extension.server-startup"</a:t>
            </a:r>
            <a:r>
              <a:rPr b="0" lang="en-US" sz="2000" spc="-1" strike="noStrike">
                <a:solidFill>
                  <a:srgbClr val="ffffff"/>
                </a:solidFill>
                <a:latin typeface="Arial"/>
              </a:rPr>
              <a:t> are started by enumerating the components within that grouping.</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lst most platforms use a single JVM process to run WAS, zOS uses multiple processes called servants, controls, and adjuncts to emulate the standard J2EE behaviour, so the </a:t>
            </a:r>
            <a:r>
              <a:rPr b="1" lang="en-US" sz="1800" spc="-1" strike="noStrike">
                <a:solidFill>
                  <a:srgbClr val="ffffff"/>
                </a:solidFill>
                <a:latin typeface="Arial"/>
              </a:rPr>
              <a:t>processType</a:t>
            </a:r>
            <a:r>
              <a:rPr b="0" lang="en-US" sz="1800" spc="-1" strike="noStrike">
                <a:solidFill>
                  <a:srgbClr val="ffffff"/>
                </a:solidFill>
                <a:latin typeface="Arial"/>
              </a:rPr>
              <a:t> attribute is used to tell the environment how the different components should be started on the zOS platform</a:t>
            </a:r>
            <a:endParaRPr b="0" lang="en-US" sz="1800" spc="-1" strike="noStrike">
              <a:solidFill>
                <a:srgbClr val="ffffff"/>
              </a:solidFill>
              <a:latin typeface="Arial"/>
            </a:endParaRPr>
          </a:p>
          <a:p>
            <a:pPr lvl="2" marL="1143000" indent="-228600">
              <a:lnSpc>
                <a:spcPct val="90000"/>
              </a:lnSpc>
              <a:spcBef>
                <a:spcPts val="40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n’t relevant to “distributed” platforms such as AIX. </a:t>
            </a:r>
            <a:endParaRPr b="0" lang="en-US" sz="1600" spc="-1" strike="noStrike">
              <a:solidFill>
                <a:srgbClr val="ffffff"/>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platform</a:t>
            </a:r>
            <a:r>
              <a:rPr b="0" lang="en-US" sz="1800" spc="-1" strike="noStrike">
                <a:solidFill>
                  <a:srgbClr val="ffffff"/>
                </a:solidFill>
                <a:latin typeface="Arial"/>
              </a:rPr>
              <a:t> attribute identifies components that should only be run on specific platforms such as zOS, and for AIX the </a:t>
            </a:r>
            <a:r>
              <a:rPr b="1" i="1" lang="en-US" sz="1800" spc="-1" strike="noStrike">
                <a:solidFill>
                  <a:srgbClr val="ffffff"/>
                </a:solidFill>
                <a:latin typeface="Arial"/>
              </a:rPr>
              <a:t>distributed</a:t>
            </a:r>
            <a:r>
              <a:rPr b="0" lang="en-US" sz="1800" spc="-1" strike="noStrike">
                <a:solidFill>
                  <a:srgbClr val="ffffff"/>
                </a:solidFill>
                <a:latin typeface="Arial"/>
              </a:rPr>
              <a:t> value or absence of the attribute identifies what is loaded. </a:t>
            </a:r>
            <a:endParaRPr b="0" lang="en-US" sz="1800" spc="-1" strike="noStrike">
              <a:solidFill>
                <a:srgbClr val="ffffff"/>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tartup</a:t>
            </a:r>
            <a:r>
              <a:rPr b="0" lang="en-US" sz="1800" spc="-1" strike="noStrike">
                <a:solidFill>
                  <a:srgbClr val="ffffff"/>
                </a:solidFill>
                <a:latin typeface="Arial"/>
              </a:rPr>
              <a:t> attribute identifies the order in which the components load, with the lowest value loading first. </a:t>
            </a:r>
            <a:endParaRPr b="0" lang="en-US" sz="1800" spc="-1" strike="noStrike">
              <a:solidFill>
                <a:srgbClr val="ffffff"/>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recoveryType</a:t>
            </a:r>
            <a:r>
              <a:rPr b="0" lang="en-US" sz="1800" spc="-1" strike="noStrike">
                <a:solidFill>
                  <a:srgbClr val="ffffff"/>
                </a:solidFill>
                <a:latin typeface="Arial"/>
              </a:rPr>
              <a:t> attribute is another zOS specific artefa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5)</a:t>
            </a:r>
            <a:endParaRPr b="0" lang="en-US" sz="4400" spc="-1" strike="noStrike">
              <a:solidFill>
                <a:srgbClr val="ffffff"/>
              </a:solidFill>
              <a:latin typeface="Arial"/>
            </a:endParaRPr>
          </a:p>
        </p:txBody>
      </p:sp>
      <p:sp>
        <p:nvSpPr>
          <p:cNvPr id="148"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extension point="com.ibm.wsspi.extension.server-startup"&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000" class="com.ibm.ws.runtime.component.VirtualHostMgrImpl" platform="zos"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999" class="com.ibm.ws.runtime.component.ThreadMonitorImpl" recovery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class="com.ibm.ws.runtime.component.EndPointMgrImpl" recovery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class="com.ibm.ws.runtime.component.ThreadPoolMgrImpl" type="services/threadpoolmanager.ThreadPoolManager" configurationDataRequired="false" recovery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class="com.ibm.ws.runtime.component.TransportChannelLoaderImpl" platform="distributed,os400"/&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5000" type="services/orb.ObjectRequestBroker" recovery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5400" class="com.ibm.ws.hamanager.proxy.ProxyImpl" platform="zos" processType="Adjunct,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5400" class="com.ibm.ws.hamanager.runtime.CoordinatorComponentImpl"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6600" type="services/applicationserver.DynamicCache"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3500" class="com.ibm.ws390.jfap.JFAPProxyComponentImpl" platform="zos"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4000" class="com.ibm.ws.dwlm.client.DWLMClientImpl" process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5000" class="com.ibm.ws.messaging.component.JmsAdminService” processType="Adjunct,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5000" class="com.ibm.ws.runtime.component.TxServiceImpl" platform="zos" processType="Control" recovery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00000" class="com.ibm.ws.taskmanagement.mapper.TaskManagementServiceMapper"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00100" class="com.ibm.ws.taskmanagement.task.TaskManagementMBean"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999999" class="com.ibm.ws.wim.management.UserManagementProces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runtime.component.WLCImpl" platform="distributed,os400"/&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soapchannel.monitor.component.SOAPMonitorChannelComponentImpl" platform="zos"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extension&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5331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ditional JVM Architecture</a:t>
            </a:r>
            <a:endParaRPr b="0" lang="en-US" sz="4400" spc="-1" strike="noStrike">
              <a:solidFill>
                <a:srgbClr val="ffffff"/>
              </a:solidFill>
              <a:latin typeface="Arial"/>
            </a:endParaRPr>
          </a:p>
        </p:txBody>
      </p:sp>
      <p:pic>
        <p:nvPicPr>
          <p:cNvPr id="88" name="" descr=""/>
          <p:cNvPicPr/>
          <p:nvPr/>
        </p:nvPicPr>
        <p:blipFill>
          <a:blip r:embed="rId2"/>
          <a:stretch/>
        </p:blipFill>
        <p:spPr>
          <a:xfrm>
            <a:off x="762120" y="762120"/>
            <a:ext cx="7619760" cy="593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6)</a:t>
            </a:r>
            <a:endParaRPr b="0" lang="en-US" sz="4400" spc="-1" strike="noStrike">
              <a:solidFill>
                <a:srgbClr val="ffffff"/>
              </a:solidFill>
              <a:latin typeface="Arial"/>
            </a:endParaRPr>
          </a:p>
        </p:txBody>
      </p:sp>
      <p:sp>
        <p:nvSpPr>
          <p:cNvPr id="150"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the runtime services the application server container itself is loaded. </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provides the generic container level services that the J2EE containers, such as the web and EJB containers, use and sit within. </a:t>
            </a:r>
            <a:endParaRPr b="0" lang="en-US" sz="18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ied by the </a:t>
            </a:r>
            <a:r>
              <a:rPr b="1" lang="en-US" sz="2000" spc="-1" strike="noStrike">
                <a:solidFill>
                  <a:srgbClr val="ffffff"/>
                </a:solidFill>
                <a:latin typeface="Arial"/>
              </a:rPr>
              <a:t>com.ibm.wsspi.extension.applicationserver-startup</a:t>
            </a:r>
            <a:r>
              <a:rPr b="0" lang="en-US" sz="2000" spc="-1" strike="noStrike">
                <a:solidFill>
                  <a:srgbClr val="ffffff"/>
                </a:solidFill>
                <a:latin typeface="Arial"/>
              </a:rPr>
              <a:t> section of the </a:t>
            </a:r>
            <a:r>
              <a:rPr b="1" lang="en-US" sz="2000" spc="-1" strike="noStrike">
                <a:solidFill>
                  <a:srgbClr val="ffffff"/>
                </a:solidFill>
                <a:latin typeface="Arial"/>
              </a:rPr>
              <a:t>plugin.xml</a:t>
            </a:r>
            <a:r>
              <a:rPr b="0" lang="en-US" sz="2000" spc="-1" strike="noStrike">
                <a:solidFill>
                  <a:srgbClr val="ffffff"/>
                </a:solidFill>
                <a:latin typeface="Arial"/>
              </a:rPr>
              <a:t> file. </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processType</a:t>
            </a:r>
            <a:r>
              <a:rPr b="0" lang="en-US" sz="1800" spc="-1" strike="noStrike">
                <a:solidFill>
                  <a:srgbClr val="ffffff"/>
                </a:solidFill>
                <a:latin typeface="Arial"/>
              </a:rPr>
              <a:t>, </a:t>
            </a:r>
            <a:r>
              <a:rPr b="1" lang="en-US" sz="1800" spc="-1" strike="noStrike">
                <a:solidFill>
                  <a:srgbClr val="ffffff"/>
                </a:solidFill>
                <a:latin typeface="Arial"/>
              </a:rPr>
              <a:t>platform</a:t>
            </a:r>
            <a:r>
              <a:rPr b="0" lang="en-US" sz="1800" spc="-1" strike="noStrike">
                <a:solidFill>
                  <a:srgbClr val="ffffff"/>
                </a:solidFill>
                <a:latin typeface="Arial"/>
              </a:rPr>
              <a:t> and </a:t>
            </a:r>
            <a:r>
              <a:rPr b="1" lang="en-US" sz="1800" spc="-1" strike="noStrike">
                <a:solidFill>
                  <a:srgbClr val="ffffff"/>
                </a:solidFill>
                <a:latin typeface="Arial"/>
              </a:rPr>
              <a:t>startup</a:t>
            </a:r>
            <a:r>
              <a:rPr b="0" lang="en-US" sz="1800" spc="-1" strike="noStrike">
                <a:solidFill>
                  <a:srgbClr val="ffffff"/>
                </a:solidFill>
                <a:latin typeface="Arial"/>
              </a:rPr>
              <a:t> attributes mean the same as before.</a:t>
            </a:r>
            <a:endParaRPr b="0" lang="en-US" sz="18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ourier New"/>
              </a:rPr>
              <a:t> </a:t>
            </a:r>
            <a:r>
              <a:rPr b="0" lang="en-US" sz="2400" spc="-1" strike="noStrike">
                <a:solidFill>
                  <a:srgbClr val="ffffff"/>
                </a:solidFill>
                <a:latin typeface="Courier New"/>
              </a:rPr>
              <a:t> </a:t>
            </a:r>
            <a:r>
              <a:rPr b="0" lang="en-US" sz="900" spc="-1" strike="noStrike">
                <a:solidFill>
                  <a:srgbClr val="ffffff"/>
                </a:solidFill>
                <a:latin typeface="Courier New"/>
              </a:rPr>
              <a:t>&lt;extension point="com.ibm.wsspi.extension.applicationserver-startup"&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s&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 type="objectpoolservice.ObjectPoolService"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 class="com.ibm.ws.runtime.component.MetaDataMgrImpl"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 class="com.ibm.ws.runtime.component.VirtualHostMgrImpl"/&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5000" class="com.ibm.ws.webservices.component.WSServerImpl"/&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6600" type="services/applicationserver.DynamicCache" processType="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6800" class="com.ibm.wkplc.extensionregistry.wasservice.ExtensionRegistryService"/&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7000" type="components/applicationserver.ejbcontainer.EJBContainer"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8700" class="com.ibm.ws.runtime.component.ThreadPoolImpl"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9000" type="components"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0" class="com.ibm.ws.performance.tuning.serverAlert.ServerRuleDriverMBean" processType="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0" class="com.ibm.ws.runtime.component.ApplicationMgrImpl"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0" class="com.ibm.ws.runtime.component.LibraryMgrImpl"/&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1" class="com.ibm.ws.cluster.runtime.ApplicationServerRuntimeImpl"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99999" class="com.ibm.ws.wccm.services.pme.PMECheckServerConfigService"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s&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extension&gt;</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7)</a:t>
            </a:r>
            <a:endParaRPr b="0" lang="en-US" sz="4400" spc="-1" strike="noStrike">
              <a:solidFill>
                <a:srgbClr val="ffffff"/>
              </a:solidFill>
              <a:latin typeface="Arial"/>
            </a:endParaRPr>
          </a:p>
        </p:txBody>
      </p:sp>
      <p:sp>
        <p:nvSpPr>
          <p:cNvPr id="152"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JB container startup configuration shows that the EJB container code does not have any additional extensions to run beyond the code in </a:t>
            </a:r>
            <a:r>
              <a:rPr b="1" lang="en-US" sz="2000" spc="-1" strike="noStrike">
                <a:solidFill>
                  <a:srgbClr val="ffffff"/>
                </a:solidFill>
                <a:latin typeface="Arial"/>
              </a:rPr>
              <a:t>com.ibm.ws.runtime_6.1.0.jar</a:t>
            </a:r>
            <a:r>
              <a:rPr b="0" lang="en-US" sz="2000" spc="-1" strike="noStrike">
                <a:solidFill>
                  <a:srgbClr val="ffffff"/>
                </a:solidFill>
                <a:latin typeface="Arial"/>
              </a:rPr>
              <a:t> file and the separate </a:t>
            </a:r>
            <a:r>
              <a:rPr b="1" lang="en-US" sz="2000" spc="-1" strike="noStrike">
                <a:solidFill>
                  <a:srgbClr val="ffffff"/>
                </a:solidFill>
                <a:latin typeface="Arial"/>
              </a:rPr>
              <a:t>com.ibm.ws.ejbportable_6.1.0.jar</a:t>
            </a:r>
            <a:r>
              <a:rPr b="0" lang="en-US" sz="2000" spc="-1" strike="noStrike">
                <a:solidFill>
                  <a:srgbClr val="ffffff"/>
                </a:solidFill>
                <a:latin typeface="Arial"/>
              </a:rPr>
              <a:t> file that extends this.</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1200" spc="-1" strike="noStrike">
                <a:solidFill>
                  <a:srgbClr val="ffffff"/>
                </a:solidFill>
                <a:latin typeface="Courier New"/>
              </a:rPr>
              <a:t>&lt;extension point="com.ibm.wsspi.extension.ejbcontainer-startup"&g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components&g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component startup="1000" type="services" /&g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components&g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extension&gt;</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ejbportable_6.1.0.jar</a:t>
            </a:r>
            <a:r>
              <a:rPr b="0" lang="en-US" sz="2000" spc="-1" strike="noStrike">
                <a:solidFill>
                  <a:srgbClr val="ffffff"/>
                </a:solidFill>
                <a:latin typeface="Arial"/>
              </a:rPr>
              <a:t> file doesn’t have its own </a:t>
            </a:r>
            <a:r>
              <a:rPr b="1" lang="en-US" sz="2000" spc="-1" strike="noStrike">
                <a:solidFill>
                  <a:srgbClr val="ffffff"/>
                </a:solidFill>
                <a:latin typeface="Arial"/>
              </a:rPr>
              <a:t>plugin.xml</a:t>
            </a:r>
            <a:r>
              <a:rPr b="0" lang="en-US" sz="2000" spc="-1" strike="noStrike">
                <a:solidFill>
                  <a:srgbClr val="ffffff"/>
                </a:solidFill>
                <a:latin typeface="Arial"/>
              </a:rPr>
              <a:t> file, but doesn’t need one as in its </a:t>
            </a:r>
            <a:r>
              <a:rPr b="1" lang="en-US" sz="2000" spc="-1" strike="noStrike">
                <a:solidFill>
                  <a:srgbClr val="ffffff"/>
                </a:solidFill>
                <a:latin typeface="Arial"/>
              </a:rPr>
              <a:t>MANIFEST.MF</a:t>
            </a:r>
            <a:r>
              <a:rPr b="0" lang="en-US" sz="2000" spc="-1" strike="noStrike">
                <a:solidFill>
                  <a:srgbClr val="ffffff"/>
                </a:solidFill>
                <a:latin typeface="Arial"/>
              </a:rPr>
              <a:t> file it uses the </a:t>
            </a:r>
            <a:r>
              <a:rPr b="1" lang="en-US" sz="2000" spc="-1" strike="noStrike">
                <a:solidFill>
                  <a:srgbClr val="ffffff"/>
                </a:solidFill>
                <a:latin typeface="Arial"/>
              </a:rPr>
              <a:t>Fragment-Host</a:t>
            </a:r>
            <a:r>
              <a:rPr b="0" lang="en-US" sz="2000" spc="-1" strike="noStrike">
                <a:solidFill>
                  <a:srgbClr val="ffffff"/>
                </a:solidFill>
                <a:latin typeface="Arial"/>
              </a:rPr>
              <a:t> attribute to identify itself as an extension of the base WebSphere Application Server </a:t>
            </a:r>
            <a:r>
              <a:rPr b="1" lang="en-US" sz="2000" spc="-1" strike="noStrike">
                <a:solidFill>
                  <a:srgbClr val="ffffff"/>
                </a:solidFill>
                <a:latin typeface="Arial"/>
              </a:rPr>
              <a:t>com.ibm.ws.runtime_6.1.0.jar</a:t>
            </a:r>
            <a:r>
              <a:rPr b="0" lang="en-US" sz="2000" spc="-1" strike="noStrike">
                <a:solidFill>
                  <a:srgbClr val="ffffff"/>
                </a:solidFill>
                <a:latin typeface="Arial"/>
              </a:rPr>
              <a:t> bundle, so the </a:t>
            </a:r>
            <a:r>
              <a:rPr b="1" lang="en-US" sz="2000" spc="-1" strike="noStrike">
                <a:solidFill>
                  <a:srgbClr val="ffffff"/>
                </a:solidFill>
                <a:latin typeface="Arial"/>
              </a:rPr>
              <a:t>plugin.xml</a:t>
            </a:r>
            <a:r>
              <a:rPr b="0" lang="en-US" sz="2000" spc="-1" strike="noStrike">
                <a:solidFill>
                  <a:srgbClr val="ffffff"/>
                </a:solidFill>
                <a:latin typeface="Arial"/>
              </a:rPr>
              <a:t> file from that applies.</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undle-Localization: fragmen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undle-ManifestVersion: 2</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undle-Name: ejbportable</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undle-SymbolicName: com.ibm.ws.ejbportable; singleton:=true</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undle-Vendor: IBM</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undle-Version: 6.1.0</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ragment-Host: com.ibm.ws.runtime; bundle-version=6.1.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8)</a:t>
            </a:r>
            <a:endParaRPr b="0" lang="en-US" sz="4400" spc="-1" strike="noStrike">
              <a:solidFill>
                <a:srgbClr val="ffffff"/>
              </a:solidFill>
              <a:latin typeface="Arial"/>
            </a:endParaRPr>
          </a:p>
        </p:txBody>
      </p:sp>
      <p:sp>
        <p:nvSpPr>
          <p:cNvPr id="154"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eb container can support additional components for JSF and JSP</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 this configuration is commented out in the plugin.xml file for the WebSphere runtime so only the base code in </a:t>
            </a:r>
            <a:r>
              <a:rPr b="1" lang="en-US" sz="1800" spc="-1" strike="noStrike">
                <a:solidFill>
                  <a:srgbClr val="ffffff"/>
                </a:solidFill>
                <a:latin typeface="Arial"/>
              </a:rPr>
              <a:t>com.ibm.ws.runtime_6.1.0.jar</a:t>
            </a:r>
            <a:r>
              <a:rPr b="0" lang="en-US" sz="1800" spc="-1" strike="noStrike">
                <a:solidFill>
                  <a:srgbClr val="ffffff"/>
                </a:solidFill>
                <a:latin typeface="Arial"/>
              </a:rPr>
              <a:t> and </a:t>
            </a:r>
            <a:r>
              <a:rPr b="1" lang="en-US" sz="1800" spc="-1" strike="noStrike">
                <a:solidFill>
                  <a:srgbClr val="ffffff"/>
                </a:solidFill>
                <a:latin typeface="Arial"/>
              </a:rPr>
              <a:t>com.ibm.ws.webcontainer_2.0.0.jar</a:t>
            </a:r>
            <a:r>
              <a:rPr b="0" lang="en-US" sz="1800" spc="-1" strike="noStrike">
                <a:solidFill>
                  <a:srgbClr val="ffffff"/>
                </a:solidFill>
                <a:latin typeface="Arial"/>
              </a:rPr>
              <a:t> file that extends this are used. </a:t>
            </a:r>
            <a:endParaRPr b="0" lang="en-US" sz="18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plugin.xml</a:t>
            </a:r>
            <a:r>
              <a:rPr b="0" lang="en-US" sz="2000" spc="-1" strike="noStrike">
                <a:solidFill>
                  <a:srgbClr val="ffffff"/>
                </a:solidFill>
                <a:latin typeface="Arial"/>
              </a:rPr>
              <a:t> file for </a:t>
            </a:r>
            <a:r>
              <a:rPr b="1" lang="en-US" sz="2000" spc="-1" strike="noStrike">
                <a:solidFill>
                  <a:srgbClr val="ffffff"/>
                </a:solidFill>
                <a:latin typeface="Arial"/>
              </a:rPr>
              <a:t>com.ibm.ws.webcontainer_2.0.jar</a:t>
            </a:r>
            <a:r>
              <a:rPr b="0" lang="en-US" sz="2000" spc="-1" strike="noStrike">
                <a:solidFill>
                  <a:srgbClr val="ffffff"/>
                </a:solidFill>
                <a:latin typeface="Arial"/>
              </a:rPr>
              <a:t> shows that these components and startup have been copied there and uncommented.</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future web services implementations this is likely to be a heavily used configuration item in future WAS release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bm.ws.runtime_6.1.0.jar</a:t>
            </a:r>
            <a:endParaRPr b="0" lang="en-US" sz="18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lt;!-- extension point="com.ibm.wsspi.extension.webcontainer-startup"&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type="services"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jsf.extprocessor.JSFComponentImpl"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jsp.runtime.JspComponentImpl"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extension --&gt;</a:t>
            </a:r>
            <a:endParaRPr b="0" lang="en-US" sz="1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bm.ws.webcontainer_2.0.0.jar</a:t>
            </a:r>
            <a:endParaRPr b="0" lang="en-US" sz="18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lt;extension point="com.ibm.wsspi.extension.webcontainer-startup"&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type="services"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jsf.extprocessor.JSFComponentImpl"/&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jsp.runtime.JspComponentImpl"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lt;/extension&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9)</a:t>
            </a:r>
            <a:endParaRPr b="0" lang="en-US" sz="4400" spc="-1" strike="noStrike">
              <a:solidFill>
                <a:srgbClr val="ffffff"/>
              </a:solidFill>
              <a:latin typeface="Arial"/>
            </a:endParaRPr>
          </a:p>
        </p:txBody>
      </p:sp>
      <p:sp>
        <p:nvSpPr>
          <p:cNvPr id="156"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extensions for extension clients and the scheduler service are similarly configured to the above containers.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important from the perspective of WebSphere Application Server – Network Deployment is the HAManager configuration. Without HAManager and the Distributed Replication Services WAS-ND has the same functionality as the standalone WAS base, although the management is still different. </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roup Manager, Agent Factory and Bulletin Board Factory components are key to keeping the cluster functioning as a single entity with appropriate failover of singleton components and resilien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xtension point="com.ibm.wsspi.extension.hamanager-startup"&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s&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 startup="5401" class="com.ibm.ws.hamanager.runtime.GroupManagerComponentImpl" /&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 startup="5402" class="com.ibm.ws.hamanager.runtime.AgentFactoryComponentImpl" /&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 startup="5403" class="com.ibm.ws.hamanager.runtime.BulletinBoardFactoryComponentImpl" /&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s&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xtension&g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0"/>
            <a:ext cx="7772400" cy="5335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10)</a:t>
            </a:r>
            <a:endParaRPr b="0" lang="en-US" sz="4400" spc="-1" strike="noStrike">
              <a:solidFill>
                <a:srgbClr val="ffffff"/>
              </a:solidFill>
              <a:latin typeface="Arial"/>
            </a:endParaRPr>
          </a:p>
        </p:txBody>
      </p:sp>
      <p:sp>
        <p:nvSpPr>
          <p:cNvPr id="158" name="PlaceHolder 2"/>
          <p:cNvSpPr>
            <a:spLocks noGrp="1"/>
          </p:cNvSpPr>
          <p:nvPr>
            <p:ph/>
          </p:nvPr>
        </p:nvSpPr>
        <p:spPr>
          <a:xfrm>
            <a:off x="0" y="533520"/>
            <a:ext cx="9144000" cy="63244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7000"/>
          </a:bodyPr>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spi.extensionXXXXX</a:t>
            </a:r>
            <a:r>
              <a:rPr b="0" lang="en-US" sz="2000" spc="-1" strike="noStrike">
                <a:solidFill>
                  <a:srgbClr val="ffffff"/>
                </a:solidFill>
                <a:latin typeface="Arial"/>
              </a:rPr>
              <a:t> startups bring the thread pools and object pools into life, and the TCP transport channel loader.</a:t>
            </a:r>
            <a:r>
              <a:rPr b="0" lang="en-US" sz="2400" spc="-1" strike="noStrike">
                <a:solidFill>
                  <a:srgbClr val="ffffff"/>
                </a:solidFill>
                <a:latin typeface="Arial"/>
              </a:rPr>
              <a:t> </a:t>
            </a:r>
            <a:endParaRPr b="0" lang="en-US" sz="2400" spc="-1" strike="noStrike">
              <a:solidFill>
                <a:srgbClr val="ffffff"/>
              </a:solidFill>
              <a:latin typeface="Arial"/>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ffffff"/>
                </a:solidFill>
                <a:latin typeface="Arial"/>
              </a:rPr>
              <a:t>plugin.xml</a:t>
            </a:r>
            <a:r>
              <a:rPr b="0" lang="en-US" sz="1600" spc="-1" strike="noStrike">
                <a:solidFill>
                  <a:srgbClr val="ffffff"/>
                </a:solidFill>
                <a:latin typeface="Arial"/>
              </a:rPr>
              <a:t> file is used to relate the configuration, interface and runtime classes – distinguishing between the protocol handlers and the connectors, i.e.</a:t>
            </a:r>
            <a:r>
              <a:rPr b="0" lang="en-US" sz="1800" spc="-1" strike="noStrike">
                <a:solidFill>
                  <a:srgbClr val="ffffff"/>
                </a:solidFill>
                <a:latin typeface="Arial"/>
              </a:rPr>
              <a:t> </a:t>
            </a:r>
            <a:endParaRPr b="0" lang="en-US" sz="18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ourier New"/>
              </a:rPr>
              <a:t>   </a:t>
            </a:r>
            <a:r>
              <a:rPr b="0" lang="en-US" sz="1000" spc="-1" strike="noStrike">
                <a:solidFill>
                  <a:srgbClr val="ffffff"/>
                </a:solidFill>
                <a:latin typeface="Courier New"/>
              </a:rPr>
              <a:t>&lt;extension point="com.ibm.wsspi.extension.channel-framework-channel-type"&g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hannel kind="ACCEPTOR"</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figurationClass="com.ibm.websphere.models.config.channelservice.channels.DCSInboundChanne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runtimeClass="com.ibm.ws.hamanager.channel.DCSChannelFactory"</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deviceInterface="com.ibm.wsspi.tcp.channel.TCPConnection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d="DCSInboundChannel” validatorClass="com.ibm.ws.hamanager.channel.DCSChannelValidator"/&g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hannel kind="PROTOCO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figurationClass="com.ibm.websphere.models.config.channelservice.channels.HTTPInboundChanne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runtimeClass="com.ibm.ws.http.channel.inbound.impl.WSHttpInboundChannelFactory"</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deviceInterface="com.ibm.wsspi.tcp.channel.TCPConnection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pplicationInterface="com.ibm.wsspi.http.channel.inbound.HttpInboundService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d="HTTPInboundChannel"</a:t>
            </a:r>
            <a:r>
              <a:rPr b="0" lang="en-US" sz="1000" spc="-1" strike="noStrike">
                <a:solidFill>
                  <a:srgbClr val="ffffff"/>
                </a:solidFill>
                <a:latin typeface="ヒラギノ角ゴ ProN W3"/>
              </a:rPr>
              <a:t>_x001a_</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ヒラギノ角ゴ ProN W3"/>
              </a:rPr>
              <a:t>                        </a:t>
            </a:r>
            <a:r>
              <a:rPr b="0" lang="en-US" sz="1000" spc="-1" strike="noStrike">
                <a:solidFill>
                  <a:srgbClr val="ffffff"/>
                </a:solidFill>
                <a:latin typeface="Courier New"/>
              </a:rPr>
              <a:t>validatorClass="com.ibm.ws.http.channel.validation.HttpInboundChannelValidator"/&gt;</a:t>
            </a:r>
            <a:endParaRPr b="0" lang="en-US" sz="1000" spc="-1" strike="noStrike">
              <a:solidFill>
                <a:srgbClr val="ffffff"/>
              </a:solidFill>
              <a:latin typeface="Arial"/>
            </a:endParaRPr>
          </a:p>
          <a:p>
            <a:pPr lvl="1" marL="7207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a:t>
            </a:r>
            <a:endParaRPr b="0" lang="en-US" sz="8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hannel kind="ACCEPTOR” deviceInterface="com.ibm.wsspi.tcp.channel.TCPConnection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figurationClass="com.ibm.websphere.models.config.channelservice.channels.ORBInboundChanne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runtimeClass="com.ibm.ws.iiop.channel.impl.IIOPInboundChannelFactory"</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d="ORBInboundChannel” validatorClass="com.ibm.ws.orb.channel.impl.ORBChannelValidator"/&g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hannel kind="CONNECTOR"</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figurationClass="com.ibm.websphere.models.config.channelservice.channels.TCPInboundChanne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runtimeClass="com.ibm.ws.tcp.channel.impl.WSTCPChannelFactory"</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pplicationInterface="com.ibm.wsspi.tcp.channel.TCPConnection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d="TCPInboundChannel” validatorClass="com.ibm.ws.tcp.channel.impl.TCPChannelValidator"</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platform="distributed,os400"/&gt;</a:t>
            </a:r>
            <a:endParaRPr b="0" lang="en-US" sz="1000" spc="-1" strike="noStrike">
              <a:solidFill>
                <a:srgbClr val="ffffff"/>
              </a:solidFill>
              <a:latin typeface="Arial"/>
            </a:endParaRPr>
          </a:p>
          <a:p>
            <a:pPr lvl="1" marL="7207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a:t>
            </a:r>
            <a:endParaRPr b="0" lang="en-US" sz="8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lt;/extension&gt;</a:t>
            </a:r>
            <a:endParaRPr b="0" lang="en-US" sz="1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ヒラギノ角ゴ Pro W3"/>
              </a:rPr>
              <a:t>   </a:t>
            </a: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Similar configuration and startup behaviour is used for the EJB container</a:t>
            </a:r>
            <a:endParaRPr b="0" lang="en-US" sz="2000" spc="-1" strike="noStrike">
              <a:solidFill>
                <a:srgbClr val="ffffff"/>
              </a:solidFill>
              <a:latin typeface="Arial"/>
            </a:endParaRPr>
          </a:p>
          <a:p>
            <a:pPr lvl="1" marL="720720" indent="-27720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Communications are more complex as they use JNI and a shared object for IIOP. </a:t>
            </a:r>
            <a:endParaRPr b="0" lang="en-US" sz="1600" spc="-1" strike="noStrike">
              <a:solidFill>
                <a:srgbClr val="ffffff"/>
              </a:solidFill>
              <a:latin typeface="Arial"/>
            </a:endParaRPr>
          </a:p>
          <a:p>
            <a:pPr lvl="1" marL="720720" indent="-27720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The plugin.xml file has similar usage for the Service Integration Bus and other subsystems</a:t>
            </a:r>
            <a:r>
              <a:rPr b="0" lang="en-US" sz="1600" spc="-1" strike="noStrike">
                <a:solidFill>
                  <a:srgbClr val="000000"/>
                </a:solidFill>
                <a:latin typeface="Arial"/>
                <a:ea typeface="ヒラギノ角ゴ Pro W3"/>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09680" y="75960"/>
            <a:ext cx="518184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Startup</a:t>
            </a:r>
            <a:endParaRPr b="0" lang="en-US" sz="4400" spc="-1" strike="noStrike">
              <a:solidFill>
                <a:srgbClr val="ffffff"/>
              </a:solidFill>
              <a:latin typeface="Arial"/>
            </a:endParaRPr>
          </a:p>
        </p:txBody>
      </p:sp>
      <p:sp>
        <p:nvSpPr>
          <p:cNvPr id="160" name="PlaceHolder 2"/>
          <p:cNvSpPr>
            <a:spLocks noGrp="1"/>
          </p:cNvSpPr>
          <p:nvPr>
            <p:ph/>
          </p:nvPr>
        </p:nvSpPr>
        <p:spPr>
          <a:xfrm>
            <a:off x="228600" y="837720"/>
            <a:ext cx="8610480" cy="57150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tack traces and the startServer.sh script to work out what goes on.</a:t>
            </a:r>
            <a:endParaRPr b="0" lang="en-US" sz="24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Eclipse/OSGI configuration/config.ini fil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possible to write your own OSGI bundle that is loaded from this</a:t>
            </a:r>
            <a:endParaRPr b="0" lang="en-US" sz="20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plugin.xml file</a:t>
            </a:r>
            <a:endParaRPr b="0" lang="en-US" sz="24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containers load from startWsServer through the WsServerImpl implementation class they get to the bootServerContainer method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uses a WSContainer class strategy wrapper</a:t>
            </a:r>
            <a:endParaRPr b="0" lang="en-US" sz="20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ainerImpl class reads its container section in the plugin.xml file and enumerates each of the entries as a WsComponent clas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der is controlled by the value of the startup attribute</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asses are in com.ibm.ws.runtime_6.1.0.j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38280" y="-360"/>
            <a:ext cx="5029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Startup (2)</a:t>
            </a:r>
            <a:endParaRPr b="0" lang="en-US" sz="4400" spc="-1" strike="noStrike">
              <a:solidFill>
                <a:srgbClr val="ffffff"/>
              </a:solidFill>
              <a:latin typeface="Arial"/>
            </a:endParaRPr>
          </a:p>
        </p:txBody>
      </p:sp>
      <p:graphicFrame>
        <p:nvGraphicFramePr>
          <p:cNvPr id="162" name=""/>
          <p:cNvGraphicFramePr/>
          <p:nvPr/>
        </p:nvGraphicFramePr>
        <p:xfrm>
          <a:off x="457200" y="806400"/>
          <a:ext cx="8229600" cy="6051600"/>
        </p:xfrm>
        <a:graphic>
          <a:graphicData uri="http://schemas.openxmlformats.org/presentationml/2006/ole">
            <p:oleObj progId="Word.Document.12" r:id="rId2" spid="">
              <p:embed/>
              <p:pic>
                <p:nvPicPr>
                  <p:cNvPr id="163" name="" descr=""/>
                  <p:cNvPicPr/>
                  <p:nvPr/>
                </p:nvPicPr>
                <p:blipFill>
                  <a:blip r:embed="rId3"/>
                  <a:stretch/>
                </p:blipFill>
                <p:spPr>
                  <a:xfrm>
                    <a:off x="457200" y="806400"/>
                    <a:ext cx="8229600" cy="605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75960"/>
            <a:ext cx="533412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Startup (3)</a:t>
            </a:r>
            <a:endParaRPr b="0" lang="en-US" sz="4400" spc="-1" strike="noStrike">
              <a:solidFill>
                <a:srgbClr val="ffffff"/>
              </a:solidFill>
              <a:latin typeface="Arial"/>
            </a:endParaRPr>
          </a:p>
        </p:txBody>
      </p:sp>
      <p:graphicFrame>
        <p:nvGraphicFramePr>
          <p:cNvPr id="165" name=""/>
          <p:cNvGraphicFramePr/>
          <p:nvPr/>
        </p:nvGraphicFramePr>
        <p:xfrm>
          <a:off x="533520" y="852480"/>
          <a:ext cx="8153280" cy="5853240"/>
        </p:xfrm>
        <a:graphic>
          <a:graphicData uri="http://schemas.openxmlformats.org/presentationml/2006/ole">
            <p:oleObj progId="Word.Document.12" r:id="rId2" spid="">
              <p:embed/>
              <p:pic>
                <p:nvPicPr>
                  <p:cNvPr id="166" name="" descr=""/>
                  <p:cNvPicPr/>
                  <p:nvPr/>
                </p:nvPicPr>
                <p:blipFill>
                  <a:blip r:embed="rId3"/>
                  <a:stretch/>
                </p:blipFill>
                <p:spPr>
                  <a:xfrm>
                    <a:off x="533520" y="852480"/>
                    <a:ext cx="8153280" cy="58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75960"/>
            <a:ext cx="59436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Disk Layout</a:t>
            </a:r>
            <a:endParaRPr b="0" lang="en-US" sz="4400" spc="-1" strike="noStrike">
              <a:solidFill>
                <a:srgbClr val="ffffff"/>
              </a:solidFill>
              <a:latin typeface="Arial"/>
            </a:endParaRPr>
          </a:p>
        </p:txBody>
      </p:sp>
      <p:sp>
        <p:nvSpPr>
          <p:cNvPr id="168"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16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70" name=""/>
          <p:cNvGraphicFramePr/>
          <p:nvPr/>
        </p:nvGraphicFramePr>
        <p:xfrm>
          <a:off x="152280" y="698400"/>
          <a:ext cx="8839440" cy="6006960"/>
        </p:xfrm>
        <a:graphic>
          <a:graphicData uri="http://schemas.openxmlformats.org/drawingml/2006/table">
            <a:tbl>
              <a:tblPr/>
              <a:tblGrid>
                <a:gridCol w="1524240"/>
                <a:gridCol w="7315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rector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WAS specific binaries (i.e. shared objects, etc) and management scripts. In the profile version of this directory the parent scripts are call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p</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default customized installation package (CIP) config for use with the Eclipse based installation factory too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guration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config.ini file used to control the Eclipse/OSGI base configuration and startup. This is a very important file as it controls what gets loaded as part of the OSGI initialisation so it can be used to start components on the JVM before WAS itself do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loytoo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an Eclipse based tool for application deployment – and a complete Eclipse environmen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rb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lightweight Java-based Apache Derby database in embedded and network server versio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c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Virtual Member Manager (VMM / WIM) environment for building a customer user and group management environment for use with federated user repositories, samples for the WS-Security web services setup, and tmx4j open source JMX code that IBM use for offering JMX management faciliti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atur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configuration for some of the Eclipse “features” used to group dependent Eclipse plugins. The subdirectories each contain a “feature.xml” file that list plugins and versions that have prerequisites and dependencies that should be configured, managed and upgraded together. Features include the base product, the network deployment product, the UDDI server, the web services gateway, and others. Note that the feature dependencies in most of the “feature.xml” files refer to version 6.0.0 products except for some of the IBM programming model extensions (PME) and new 6.1.0 specific features (labelled 7.0.0), showing that much of the core code is the same between the two 6.X versions – despite the architectural chang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step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firststeps application HTML and script files used for easy initial configuration. This makes use of the core WAS runtime library for its work.</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lableApp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EAR, WAR, etc files that form the applications that are available for deployment to the application servers configured as part of the cell managed by this installa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ledApps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deployed code from the installableApps that the profile nodes ru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75960"/>
            <a:ext cx="66294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Disk Layout (2)</a:t>
            </a:r>
            <a:endParaRPr b="0" lang="en-US" sz="4400" spc="-1" strike="noStrike">
              <a:solidFill>
                <a:srgbClr val="ffffff"/>
              </a:solidFill>
              <a:latin typeface="Arial"/>
            </a:endParaRPr>
          </a:p>
        </p:txBody>
      </p:sp>
      <p:sp>
        <p:nvSpPr>
          <p:cNvPr id="172"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73" name=""/>
          <p:cNvGraphicFramePr/>
          <p:nvPr/>
        </p:nvGraphicFramePr>
        <p:xfrm>
          <a:off x="152280" y="685800"/>
          <a:ext cx="8839440" cy="6149880"/>
        </p:xfrm>
        <a:graphic>
          <a:graphicData uri="http://schemas.openxmlformats.org/drawingml/2006/table">
            <a:tbl>
              <a:tblPr/>
              <a:tblGrid>
                <a:gridCol w="1524240"/>
                <a:gridCol w="731520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ledConnector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resource adapter archive files used by the connectors installed for the application server that use the Java Connector Architecture (JCA or J2C) to interface to external or legacy system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ledFilters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filters that the profile nodes ru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v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Java Virtual Machine used by this installation of WAS; in this case the IBM J9 JVM.</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fil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license agreement files in multiple languages for the WAS environmen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5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Java library files (i.e. JAR files) that support some of the base WAS product set. They include libraries to support some DBMSs, utility libraries, libraries to support the service integration bus and mail server interaction, some of the associated WAS tools (i.e. the  log analyzer) and base libraries to support WAS startup. Java libraries for WebSphere MQ are in a subdirectory. One file of particular interest is that used to identify the Eclipse platform in use, i.e. “.eclipseproduct” which reveals that an Eclipse 3.1.2 product is in use:</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Eclipse Platfor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org.eclipse.platfor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sion=3.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ile goes along with the startup.jar file that contains the org.eclipse.core.launcher code for running the base Eclipse environment that can host some of the Eclipse based tools and the bootstrap.jar file that performs similar functions. This is the same code as can be found on the Eclipse web site for developing an AIX Eclipse application. The startup.jar and bootstrap.jar files start the Eclipse runtime by getting configuration information from properties files, config files and the classpath and then bootstrapping Eclipse/OSGI with the correct informa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g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log files for the parent environment, i.e. usually just the creation log files for the profiles created using the manageprofile.sh script. In the profiles themselves the directory contains the start and stop logs, and the error logs (i.e. stdout, e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tionalLibrari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directories for optional Java jar files that can be deployed to the environment to provide extra functionality, such as Jython, Struts, and the JSF-Portlet bridge. This contains Java code rather than shared objects or achive library fil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graphicFrame>
        <p:nvGraphicFramePr>
          <p:cNvPr id="90" name=""/>
          <p:cNvGraphicFramePr/>
          <p:nvPr/>
        </p:nvGraphicFramePr>
        <p:xfrm>
          <a:off x="304920" y="944640"/>
          <a:ext cx="8534160" cy="5684760"/>
        </p:xfrm>
        <a:graphic>
          <a:graphicData uri="http://schemas.openxmlformats.org/presentationml/2006/ole">
            <p:oleObj progId="Word.Document.12" r:id="rId2" spid="">
              <p:embed/>
              <p:pic>
                <p:nvPicPr>
                  <p:cNvPr id="91" name="" descr=""/>
                  <p:cNvPicPr/>
                  <p:nvPr/>
                </p:nvPicPr>
                <p:blipFill>
                  <a:blip r:embed="rId3"/>
                  <a:stretch/>
                </p:blipFill>
                <p:spPr>
                  <a:xfrm>
                    <a:off x="304920" y="944640"/>
                    <a:ext cx="8534160" cy="56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360"/>
            <a:ext cx="64008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Disk Layout (3)</a:t>
            </a:r>
            <a:endParaRPr b="0" lang="en-US" sz="4400" spc="-1" strike="noStrike">
              <a:solidFill>
                <a:srgbClr val="ffffff"/>
              </a:solidFill>
              <a:latin typeface="Arial"/>
            </a:endParaRPr>
          </a:p>
        </p:txBody>
      </p:sp>
      <p:sp>
        <p:nvSpPr>
          <p:cNvPr id="175"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176"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77" name=""/>
          <p:cNvGraphicFramePr/>
          <p:nvPr/>
        </p:nvGraphicFramePr>
        <p:xfrm>
          <a:off x="152280" y="644400"/>
          <a:ext cx="8915400" cy="6226200"/>
        </p:xfrm>
        <a:graphic>
          <a:graphicData uri="http://schemas.openxmlformats.org/drawingml/2006/table">
            <a:tbl>
              <a:tblPr/>
              <a:tblGrid>
                <a:gridCol w="1447920"/>
                <a:gridCol w="7467480"/>
              </a:tblGrid>
              <a:tr h="1706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ugin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Eclipse applications, this contains the Eclipse runtime environment plugins and much of the core WAS runtime environment itself that is now implemented as Eclipse plugins and OSGI bundles. Pay particular attention to :</a:t>
                      </a:r>
                      <a:endParaRPr b="0" lang="en-US" sz="1200" spc="-1" strike="noStrike">
                        <a:solidFill>
                          <a:srgbClr val="ffffff"/>
                        </a:solidFill>
                        <a:latin typeface="Arial"/>
                      </a:endParaRPr>
                    </a:p>
                    <a:p>
                      <a:pPr>
                        <a:lnSpc>
                          <a:spcPct val="100000"/>
                        </a:lnSpc>
                        <a:spcBef>
                          <a:spcPts val="300"/>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org.eclipse.osgi_3.1.2.jar – Core of the OSGI platform</a:t>
                      </a:r>
                      <a:endParaRPr b="0" lang="en-US" sz="1200" spc="-1" strike="noStrike">
                        <a:solidFill>
                          <a:srgbClr val="ffffff"/>
                        </a:solidFill>
                        <a:latin typeface="Arial"/>
                      </a:endParaRPr>
                    </a:p>
                    <a:p>
                      <a:pPr>
                        <a:lnSpc>
                          <a:spcPct val="100000"/>
                        </a:lnSpc>
                        <a:spcBef>
                          <a:spcPts val="300"/>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com.ibm.cds_1.0.0.jar – Provides the classloader integration with the shared classes environment</a:t>
                      </a:r>
                      <a:endParaRPr b="0" lang="en-US" sz="1200" spc="-1" strike="noStrike">
                        <a:solidFill>
                          <a:srgbClr val="ffffff"/>
                        </a:solidFill>
                        <a:latin typeface="Arial"/>
                      </a:endParaRPr>
                    </a:p>
                    <a:p>
                      <a:pPr>
                        <a:lnSpc>
                          <a:spcPct val="100000"/>
                        </a:lnSpc>
                        <a:spcBef>
                          <a:spcPts val="300"/>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com.ibm.ws.runtime_6.1.0.jar – Provides the base WAS runtime Java environment</a:t>
                      </a:r>
                      <a:endParaRPr b="0" lang="en-US" sz="1200" spc="-1" strike="noStrike">
                        <a:solidFill>
                          <a:srgbClr val="ffffff"/>
                        </a:solidFill>
                        <a:latin typeface="Arial"/>
                      </a:endParaRPr>
                    </a:p>
                    <a:p>
                      <a:pPr>
                        <a:lnSpc>
                          <a:spcPct val="100000"/>
                        </a:lnSpc>
                        <a:spcBef>
                          <a:spcPts val="300"/>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org.eclipse.jdt.core_3.1.2.jar and com.ibm.jdt.core_6.1.0 .jar that provide the Java runtime integration  between WAS, Eclipse and the JVM.</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iles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configuration and scripts specific to a configured runtime set of nodes and instances created by a particular profileTemplate (see below). Common default profiles will be Dmgr01 profile created by the ‘dmgr’ profileTemplate and the AppSrv01 profile created by the ‘managed’  profileTemplate. </a:t>
                      </a:r>
                      <a:endParaRPr b="0" lang="en-US" sz="1200" spc="-1" strike="noStrike">
                        <a:solidFill>
                          <a:srgbClr val="ffffff"/>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these profile directories pay particular attention to the logs directory containing log files for the instances, the config/cells directory containing the web server plugin-cfg.xml file and the application server server.xml file for each instance, and the bin directory containing management script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ileTemplat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XML configuration files and ant scripts used by the manageprofiles.sh script for setting up the appropriate WAS environments for a particular role. Which directories of these files are available to allow which profile roles to be set up depends on the chosen WAS installation type purchased, i.e. standalone, network deployment, e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property files and XML configuration files for key tools and WAS components for the base environmen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ntim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Java jar files for the client administration tool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ple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runtime applications and Java source for sample applications provided with WAS. These are a good resource for Java developers to learn how J2EE applications should be written.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r2war_too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xml and an xsl script to convert a WAS SIP servlet archive (sar) for use by the WAS SIP (Session Initiation Protocol) container into a standard J2EE web archive (war) file. This sar file standard is not the same as that in use by JBoss for service archiv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dule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DDL for the database implementations for various DBMSs that support the WAS Scheduler service that can invoke WAS hosted Java code to a schedu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560" y="-360"/>
            <a:ext cx="6172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Disk Layout (4)</a:t>
            </a:r>
            <a:endParaRPr b="0" lang="en-US" sz="4400" spc="-1" strike="noStrike">
              <a:solidFill>
                <a:srgbClr val="ffffff"/>
              </a:solidFill>
              <a:latin typeface="Arial"/>
            </a:endParaRPr>
          </a:p>
        </p:txBody>
      </p:sp>
      <p:sp>
        <p:nvSpPr>
          <p:cNvPr id="17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80" name=""/>
          <p:cNvGraphicFramePr/>
          <p:nvPr/>
        </p:nvGraphicFramePr>
        <p:xfrm>
          <a:off x="304920" y="762120"/>
          <a:ext cx="8610480" cy="5308560"/>
        </p:xfrm>
        <a:graphic>
          <a:graphicData uri="http://schemas.openxmlformats.org/drawingml/2006/table">
            <a:tbl>
              <a:tblPr/>
              <a:tblGrid>
                <a:gridCol w="1568160"/>
                <a:gridCol w="704232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App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Java EAR files for system level applications such as the event service or the scheduler calendar application.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5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just a dummy entry for the main installation but for profile temp directories this contains relevant property files and checkpoint serialised object files for the instanc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msStorage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a persisted copy of the runtime deployment tasks for the deployment manage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log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at the bottom of the directory tree for the nodes and instances, a tranlog directory and a partnerlog directory that are together used for XA distributed transaction management. These should be stored on a shared storage device like a NAS (with NFSv4) for the highest availability so other instances in the cluster can access them. This set of files contains details of in doubt transactio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DDIReg</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implementation of the IBM UDDI registry for web services to support lookup of web services within a private enterpri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nstal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Java code and XML configuration files to support uninstalling WA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90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alDrive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an architecture neutral DB2 driver to support JDBC access to DB2 on multiple platform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jacl and shell scripts for installing and configuring WAS and its featur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HTML documentation for WAS – including some of the Rational Rose models used to create WAS itself, the application client configuration tool, the JMX management interfaces, and the programming model for entity beans. If you want to know how WAS works and to make WAS perform better on your platform at the lowest level, examine the documentation in here as that for the “docs” directory and “all classes” explains a lo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1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stemp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checkpointed temporary changes to configuration from the deployment manager for individual users and times. This directory can grow as users make changes. If you see directories in here starting “anonymous” then your administrative security is not configured proper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360"/>
            <a:ext cx="647676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a:t>
            </a:r>
            <a:endParaRPr b="0" lang="en-US" sz="4400" spc="-1" strike="noStrike">
              <a:solidFill>
                <a:srgbClr val="ffffff"/>
              </a:solidFill>
              <a:latin typeface="Arial"/>
            </a:endParaRPr>
          </a:p>
        </p:txBody>
      </p:sp>
      <p:sp>
        <p:nvSpPr>
          <p:cNvPr id="182" name="PlaceHolder 2"/>
          <p:cNvSpPr>
            <a:spLocks noGrp="1"/>
          </p:cNvSpPr>
          <p:nvPr>
            <p:ph/>
          </p:nvPr>
        </p:nvSpPr>
        <p:spPr>
          <a:xfrm>
            <a:off x="228600" y="685800"/>
            <a:ext cx="8610480" cy="838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xml  and serverindex.xml are most important</a:t>
            </a:r>
            <a:endParaRPr b="0" lang="en-US" sz="2000" spc="-1" strike="noStrike">
              <a:solidFill>
                <a:srgbClr val="ffffff"/>
              </a:solidFill>
              <a:latin typeface="Arial"/>
            </a:endParaRPr>
          </a:p>
          <a:p>
            <a:pPr marL="343080" indent="-343080">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xml defines the security</a:t>
            </a:r>
            <a:endParaRPr b="0" lang="en-US" sz="2000" spc="-1" strike="noStrike">
              <a:solidFill>
                <a:srgbClr val="ffffff"/>
              </a:solidFill>
              <a:latin typeface="Arial"/>
            </a:endParaRPr>
          </a:p>
        </p:txBody>
      </p:sp>
      <p:sp>
        <p:nvSpPr>
          <p:cNvPr id="183"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84" name=""/>
          <p:cNvGraphicFramePr/>
          <p:nvPr/>
        </p:nvGraphicFramePr>
        <p:xfrm>
          <a:off x="304920" y="1523880"/>
          <a:ext cx="8534160" cy="5248440"/>
        </p:xfrm>
        <a:graphic>
          <a:graphicData uri="http://schemas.openxmlformats.org/drawingml/2006/table">
            <a:tbl>
              <a:tblPr/>
              <a:tblGrid>
                <a:gridCol w="2058840"/>
                <a:gridCol w="647532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ヒラギノ角ゴ Pro W3"/>
                        </a:rPr>
                        <a:t>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ヒラギノ角ゴ Pro W3"/>
                        </a:rPr>
                        <a:t>Purpo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admin-authz.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erver instance role assignments and mappings from users and groups of users to these internal rol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ell.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a small amount of information as to whether the cell is STANDALONE or DISTRIBU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regroupbridg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of core groups for high availability fast failover of singletons by the WAS HAManager for the Network Deployment edition and abov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luster.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high availability cluster topology configuration for the cluster node to enable it to identify its place in the cluster with the other cluster member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hamanagerservic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timeout, thread pool configuration, and buffer management configuration for each core group managed by the HAManager in the WAS ND environments and abov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installed-channel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some details of the installed channels for the environment. This is little used and often contains no real configura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librarie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information for optional libraries to be deployed into a particular application environment, such as those for the Java Server Faces (JSF) standard that adds additional functionality to the web containe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multibroker.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reliable multicast messaging configuration for the data replication for high availability.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namestor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data persistence binding configuration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naming-authz.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ecurity configuration of roles and user and group mappings to those roles for naming operatio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node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node topology information for the cell so the cell can identify its place in the ce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360"/>
            <a:ext cx="64008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2)</a:t>
            </a:r>
            <a:endParaRPr b="0" lang="en-US" sz="4400" spc="-1" strike="noStrike">
              <a:solidFill>
                <a:srgbClr val="ffffff"/>
              </a:solidFill>
              <a:latin typeface="Arial"/>
            </a:endParaRPr>
          </a:p>
        </p:txBody>
      </p:sp>
      <p:sp>
        <p:nvSpPr>
          <p:cNvPr id="186"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87" name=""/>
          <p:cNvGraphicFramePr/>
          <p:nvPr/>
        </p:nvGraphicFramePr>
        <p:xfrm>
          <a:off x="228600" y="685800"/>
          <a:ext cx="8763120" cy="6107040"/>
        </p:xfrm>
        <a:graphic>
          <a:graphicData uri="http://schemas.openxmlformats.org/drawingml/2006/table">
            <a:tbl>
              <a:tblPr/>
              <a:tblGrid>
                <a:gridCol w="1911240"/>
                <a:gridCol w="6851880"/>
              </a:tblGrid>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pmi-config.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PMI performance metrics module configuration to identify what is being monitored and how WAS is monitoring it, i.e. what level of monitoring, what components within that PMI configuration item are being monitored, and what Java level components are involved in that monitoring or reporting on that monitor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perftuner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rule configuration for the WAS built in application and system level monitoring advisors. WAS can simply, with minimal overhead, be configured to monitor itself according to a set of rules to allow it to advise on any misconfiguration or improvements that can be made for a particular usage and set of applications. The mapping of the rules to the Java code that validates the environment against those rules and reports against them is configured in this fi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plugin-cfg.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file for the web server plugin that configures the web servers for application mappings, weightings for use of a particular cluster member, and general cluster load balancing and high availability configuration to be used in routing decisions when forwarding a request from a web server to an application server instanc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pmirm.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PMI performance metrics configuration of what subsystems metrics are available for and to be monitored for and any filtering that is to be appli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resources-cei.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mmon Event Infrastructure (CEI) provider resource configuration for Common Business Events (CBE) that applications can emit and subscribe to. This is seen to best effect in the WebSphere Business Integration Server Foundation and WebSphere Process Server families. This was introduced with WAS 5.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resources-pme502.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WAS 5.02 programming model extensions (PME) configuration such as the Dynamic Caching (dynacache). This was introduced with WAS 5.0.2.</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resources-pm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WAS programming model extensions for the more general WAS 5.0 products and above, such as the Object Pool Provider, the Work Manager Provider, and Scheduler Provide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1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resource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information for the J2C / JCA resource adapter providers that provide the underpinnings for EJB entity bean access to a particular DBMS, messaging provider configuration, and EIS integration product WAS configuration such as for integration with CICS or IMS. This file also contains the configuration for how these resource adapters are administered from within the WAS/J2EE environmen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360"/>
            <a:ext cx="647676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3)</a:t>
            </a:r>
            <a:endParaRPr b="0" lang="en-US" sz="4400" spc="-1" strike="noStrike">
              <a:solidFill>
                <a:srgbClr val="ffffff"/>
              </a:solidFill>
              <a:latin typeface="Arial"/>
            </a:endParaRPr>
          </a:p>
        </p:txBody>
      </p:sp>
      <p:sp>
        <p:nvSpPr>
          <p:cNvPr id="18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90" name=""/>
          <p:cNvGraphicFramePr/>
          <p:nvPr/>
        </p:nvGraphicFramePr>
        <p:xfrm>
          <a:off x="228600" y="762120"/>
          <a:ext cx="8686440" cy="5986440"/>
        </p:xfrm>
        <a:graphic>
          <a:graphicData uri="http://schemas.openxmlformats.org/drawingml/2006/table">
            <a:tbl>
              <a:tblPr/>
              <a:tblGrid>
                <a:gridCol w="1383480"/>
                <a:gridCol w="7302960"/>
              </a:tblGrid>
              <a:tr h="118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ecurity.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WAS, J2EE, and JCA security configuration for the server. Configuration for single signon, trust association interceptors, CSIv2 IIOP security, etc all goes in here. If there is an issue with integrating WAS security with platform security, such as for Kerberos, examine the contents of this file. It also contains some user id and password data in some configurations, access information to key stores, key information, and SSL configuration. If WAS is to be locked down securely this file should be understood. This is one of the most important configuration files in any WAS environmen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erver.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majority of the configuration for a particular WAS instance. It contains mappings, connection and buffer configuration, and component enablement configuration for the communications channels for the core WAS containers (i.e. the Web Container, the EJB Container, the Service Integration Bus, etc), thread pool configuration, and the majority of configuration items that are not covered elsewhere. This is the most important configuration file for a WAS instanc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erverindex.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port listener configuration and mappings from WAS variable names configured elsewhere within the WAS configuration to actual values. This is important for a platform and network administrator to be aware of because the majority of these ports must be open at the platform level through any firewalls for WAS to function correctly. This is one of the most important configuration files in any WAS environmen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ib-servic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ervice Integration Bus (SIB) service configuration.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ystemapp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for the instance to enable system level applications such as the file transfer service or management EJB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variable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ubstitution mappings from internal configuration variables (like environment variables) to their actual values for the specific WAS environment, e.g. the WAS_CELL_NAME variable might be mapped to myhostnameWASCellName0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virtualhost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virtual host configuration and mime types for that host for each of the virtual hosts configured for the environment. This will at the very least contain the configuration and mime types for the “default_ho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ws-security.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ecurity key and certificate store configuration, the login type and configuration, encryption configuration, and other security configuration for the WS-Security standard for web services for WA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360"/>
            <a:ext cx="609588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4)</a:t>
            </a:r>
            <a:endParaRPr b="0" lang="en-US" sz="4400" spc="-1" strike="noStrike">
              <a:solidFill>
                <a:srgbClr val="ffffff"/>
              </a:solidFill>
              <a:latin typeface="Arial"/>
            </a:endParaRPr>
          </a:p>
        </p:txBody>
      </p:sp>
      <p:sp>
        <p:nvSpPr>
          <p:cNvPr id="192" name="PlaceHolder 2"/>
          <p:cNvSpPr>
            <a:spLocks noGrp="1"/>
          </p:cNvSpPr>
          <p:nvPr>
            <p:ph/>
          </p:nvPr>
        </p:nvSpPr>
        <p:spPr>
          <a:xfrm>
            <a:off x="228240" y="76212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xml is most importan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ies the node and clus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the configuration of each subsyste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configuration of thread pools for containers and subsystem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the communications configuration and transport chains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ode is identified by the &lt;process:Server tag&gt; which contains the rest of the configuration </a:t>
            </a:r>
            <a:endParaRPr b="0" lang="en-US" sz="2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process:Server xmi:version="2.0" xmlns:xmi="http://www.omg.org/XMI" </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xmlns:threadpoolmanager="http://www.ibm.com/websphere/appserver/schemas/6.0/threadpoolmanager.xmi" </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xmi:id="Server_1172257092257" </a:t>
            </a:r>
            <a:r>
              <a:rPr b="1" lang="en-US" sz="1400" spc="-1" strike="noStrike">
                <a:solidFill>
                  <a:srgbClr val="ffffff"/>
                </a:solidFill>
                <a:latin typeface="Courier New"/>
                <a:ea typeface="ヒラギノ角ゴ Pro W3"/>
              </a:rPr>
              <a:t>name="spock44pMember01" clusterName="spock44</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ヒラギノ角ゴ Pro W3"/>
              </a:rPr>
              <a:t>pCluster01"</a:t>
            </a:r>
            <a:r>
              <a:rPr b="0" lang="en-US" sz="1400" spc="-1" strike="noStrike">
                <a:solidFill>
                  <a:srgbClr val="ffffff"/>
                </a:solidFill>
                <a:latin typeface="Courier New"/>
                <a:ea typeface="ヒラギノ角ゴ Pro W3"/>
              </a:rPr>
              <a:t>&gt;</a:t>
            </a:r>
            <a:endParaRPr b="0" lang="en-US" sz="14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360"/>
            <a:ext cx="59436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5)</a:t>
            </a:r>
            <a:endParaRPr b="0" lang="en-US" sz="4400" spc="-1" strike="noStrike">
              <a:solidFill>
                <a:srgbClr val="ffffff"/>
              </a:solidFill>
              <a:latin typeface="Arial"/>
            </a:endParaRPr>
          </a:p>
        </p:txBody>
      </p:sp>
      <p:sp>
        <p:nvSpPr>
          <p:cNvPr id="194" name="PlaceHolder 2"/>
          <p:cNvSpPr>
            <a:spLocks noGrp="1"/>
          </p:cNvSpPr>
          <p:nvPr>
            <p:ph/>
          </p:nvPr>
        </p:nvSpPr>
        <p:spPr>
          <a:xfrm>
            <a:off x="151920" y="68580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rvices are configured within the process tag. </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 ObjectRequestBroker services for the ORB that underlies WAS.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 particular attention to the threadPool tag. </a:t>
            </a:r>
            <a:endParaRPr b="0" lang="en-US" sz="1800" spc="-1" strike="noStrike">
              <a:solidFill>
                <a:srgbClr val="ffffff"/>
              </a:solidFill>
              <a:latin typeface="Arial"/>
            </a:endParaRPr>
          </a:p>
          <a:p>
            <a:pPr lvl="2" marL="1143000" indent="-228600">
              <a:spcBef>
                <a:spcPts val="40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number of threads here is 50, but since each threadPool is mapped to a size 100 array it is limited also by that even if this value is changed.</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services xmi:type="orb:ObjectRequestBroker" xmi:id="ObjectRequestBroker_1172257094320" enable="true" requestTimeout="180" requestRetriesCount="1" requestRetriesDelay="0" connectionCacheMaximum="240" connectionCacheMinimum="100" commTraceEnabled="false" locateRequestTimeout="180" forceTunnel="never" noLocalCopies="false" useServerThreadPool="false"&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roperties xmi:id="Property_1172257094321" name="com.ibm.CORBA.enableLocateRequest" value="true"/&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roperties xmi:id="Property_1172257094326" name="com.ibm.ws.orb.transport.useMultiHome" value="true"/&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roperties xmi:id="Property_1172257094327" name="com.ibm.websphere.management.registerServerIORWithLSD" value="true"/&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22" name="com.ibm.ejs.ras.RasContextSupport"/&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23" name="com.ibm.ws.runtime.workloadcontroller.OrbWorkloadRequestInterceptor"/&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24" name="com.ibm.ws.Transaction.JTS.TxInterceptorInitializer"/&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25"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34” name="com.ibm.debug.olt.ivbtrjrt.OLT_RI"/&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lugins xmi:id="ORBPlugin_1172257094323" name="com.ibm.ws.orbimpl.transport.WSTransport"/&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lugins xmi:id="ORBPlugin_1172257094328" name="com.ibm.ws.csi.CORBAORBMethodAccessControl"/&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hreadPool xmi:id="ThreadPool_1172257094324" minimumSize="10" maximumSize="50" inactivityTimeout="3500" isGrowable="false" name="ORB.thread.pool"/&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services&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920" y="-360"/>
            <a:ext cx="632448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6)</a:t>
            </a:r>
            <a:endParaRPr b="0" lang="en-US" sz="4400" spc="-1" strike="noStrike">
              <a:solidFill>
                <a:srgbClr val="ffffff"/>
              </a:solidFill>
              <a:latin typeface="Arial"/>
            </a:endParaRPr>
          </a:p>
        </p:txBody>
      </p:sp>
      <p:sp>
        <p:nvSpPr>
          <p:cNvPr id="196" name="PlaceHolder 2"/>
          <p:cNvSpPr>
            <a:spLocks noGrp="1"/>
          </p:cNvSpPr>
          <p:nvPr>
            <p:ph/>
          </p:nvPr>
        </p:nvSpPr>
        <p:spPr>
          <a:xfrm>
            <a:off x="151920" y="83808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channels and chains are very important</a:t>
            </a:r>
            <a:endParaRPr b="0" lang="en-US" sz="18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JFAP is the MQ protocol</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s are in serverindex.xml</a:t>
            </a:r>
            <a:endParaRPr b="0" lang="en-US" sz="16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services xmi:type="channelservice:TransportChannelService" xmi:id="TransportChannelService_1172257094324" enable="tru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transportChannels xmi:type="channelservice.channels:TCPInboundChannel" xmi:id="TCPInboundChannel_1172257094324" name="TCP_1" endPointName="WC_adminhost" maxOpenConnections="20000" inactivityTimeout="60" threadPool="ThreadPool_1172257094325"/&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transportChannels xmi:type="channelservice.channels:TCPInboundChannel" xmi:id="TCPInboundChannel_1172257094325" name="TCP_2" endPointName="WC_defaulthost" maxOpenConnections="20000" inactivityTimeout="60" threadPool="ThreadPool_1172257094325"/&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transportChannels xmi:type="channelservice.channels:HTTPInboundChannel" xmi:id="HTTPInboundChannel_1172257094327" name="HTTP_1" discriminationWeight="10" maximumPersistentRequests="100" keepAlive="true" readTimeout="60" writeTimeou</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t="60" persistentTimeout="30" enableLogging="fals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transportChannels xmi:type="channelservice.channels:WebContainerInboundChannel" xmi:id="WebContainerInboundChannel_1172257094328" name="WCC_1" discriminationWeight="1" writeBufferSize="32768"/&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transportChannels xmi:type="channelservice.channels:TCPOutboundChannel" xmi:id="TCPOutboundChannel_1172257094343" name="SIB_TCP_JFAP_SSL_OUT" inactivityTimeout="60" threadPool="ThreadPool_1172257094342"/&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chains xmi:id="Chain_1172257094373" name="BootstrapSecureMessaging" transportChannels="JFAPOutboundChannel_1172257094346 SSLOutboundChannel_1172257094345 TCPOutboundChannel_1172257094343"/&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chains xmi:id="Chain_1172257094374" name="BootstrapTunneledMessaging" transportChannels="JFAPOutboundChannel_1172257094347 HTTPTunnelOutboundChannel_1172257094344 HTTPOutboundChannel_1172257094344 TCPOutboundChannel_1172257094344"/&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chains xmi:id="Chain_1172257094375" name="BootstrapTunneledSecureMessaging" transportChannels="JFAPOutboundChannel_1172257094348 HTTPTunnelOutboundChannel_1172257094345 HTTPOutboundChannel_1172257094345 SSLOutboundChannel_1172257094346 TCPOutboundChannel_1172257094345"/&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360"/>
            <a:ext cx="601956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7)</a:t>
            </a:r>
            <a:endParaRPr b="0" lang="en-US" sz="4400" spc="-1" strike="noStrike">
              <a:solidFill>
                <a:srgbClr val="ffffff"/>
              </a:solidFill>
              <a:latin typeface="Arial"/>
            </a:endParaRPr>
          </a:p>
        </p:txBody>
      </p:sp>
      <p:sp>
        <p:nvSpPr>
          <p:cNvPr id="198" name="PlaceHolder 2"/>
          <p:cNvSpPr>
            <a:spLocks noGrp="1"/>
          </p:cNvSpPr>
          <p:nvPr>
            <p:ph/>
          </p:nvPr>
        </p:nvSpPr>
        <p:spPr>
          <a:xfrm>
            <a:off x="151920" y="83808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ools are important</a:t>
            </a:r>
            <a:endParaRPr b="0" lang="en-US" sz="20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lt;services xmi:type="threadpoolmanager:ThreadPoolManager" xmi:id="ThreadPoolManager_1172257094364" enable="true"&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64" minimumSize="10" maximumSize="50" inactivityTimeout="3500" isGrowable="false" name="ORB.thread.pool"/&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65" minimumSize="1" maximumSize="3" inactivityTimeout="30000" isGrowable="false" name="server.startup" description="This pool is used by WebSphere during server startup."/&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66" minimumSize="5" maximumSize="20" name="Default"/&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25" minimumSize="10" maximumSize="50" inactivityTimeout="3500" isGrowable="false" name="WebContainer"/&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26" minimumSize="5" maximumSize="20" name="TCPChannel.DCS"/&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41" minimumSize="4" maximumSize="50" name="SIBFAPInboundThreadPool" description="Service integration bus FAP inbound channel thread pool"/&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42" minimumSize="4" maximumSize="50" name="SIBFAPThreadPool" description="Service integration bus FAP outbound channel thread pool"/&g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services&gt;</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360"/>
            <a:ext cx="632448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8)</a:t>
            </a:r>
            <a:endParaRPr b="0" lang="en-US" sz="4400" spc="-1" strike="noStrike">
              <a:solidFill>
                <a:srgbClr val="ffffff"/>
              </a:solidFill>
              <a:latin typeface="Arial"/>
            </a:endParaRPr>
          </a:p>
        </p:txBody>
      </p:sp>
      <p:sp>
        <p:nvSpPr>
          <p:cNvPr id="200" name="PlaceHolder 2"/>
          <p:cNvSpPr>
            <a:spLocks noGrp="1"/>
          </p:cNvSpPr>
          <p:nvPr>
            <p:ph/>
          </p:nvPr>
        </p:nvSpPr>
        <p:spPr>
          <a:xfrm>
            <a:off x="151920" y="83808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mponents sections configure the containers and subsystems</a:t>
            </a:r>
            <a:endParaRPr b="0" lang="en-US" sz="1800" spc="-1" strike="noStrike">
              <a:solidFill>
                <a:srgbClr val="ffffff"/>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service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omponents xmi:type="applicationserver.webcontainer:WebContainer" xmi:id="WebContainer_1172257094368" enableServletCaching="false" disablePooling="fals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tateManagement xmi:id="StateManageable_1172257094369" initialState="STAR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rvices xmi:type="applicationserver.webcontainer:SessionManager" xmi:id="SessionManager_1172257094369" enable="true" enableUrlRewriting="false" enableCookies="true" enableSSLTracking="false" enableProtocolSwitchRewriting="false"</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sessionPersistenceMode="DATA_REPLICATION" enableSecurityIntegration="false" allowSerializedSessionAccess="false" maxWaitTime="5" accessSessionOnTimeout="tru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defaultCookieSettings xmi:id="Cookie_1172257094369" domain="" maximumAge="-1" secure="fals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ssionDatabasePersistence xmi:id="SessionDatabasePersistence_1172257094369" datasourceJNDIName="jdbc/Sessions" userId="db2admin" password="{xor}Oz1tPjsyNjE=" db2RowSize="ROW_SIZE_4KB" tableSpaceNam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uningParams xmi:id="TuningParams_1172257094384" usingMultiRowSchema="false" maxInMemorySessionCount="1000" allowOverflow="true" scheduleInvalidation="false" writeFrequency="TIME_BASED_WRITE" writeInterval="10" writeContents="ONLY_UPDATED_ATTRIBUTES" invalidationTimeout="30"&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invalidationSchedule xmi:id="InvalidationSchedule_1172257094384" firstHour="14" secondHour="2"/&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uningParam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ssionDRSPersistence xmi:id="DRSSettings_1172257095445" messageBrokerDomainName="spock44pCluster01"/&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rvice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omponent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omponents xmi:type="applicationserver.ejbcontainer:EJBContainer" xmi:id="EJBContainer_1172257094384" passivationDirectory="${USER_INSTALL_ROOT}/temp" inactivePoolCleanupInterval="30000"&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tateManagement xmi:id="StateManageable_1172257094385" initialState="STAR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rvices xmi:type="applicationserver.ejbcontainer.messagelistener:MessageListenerService" xmi:id="MessageListenerService_1172257094385"&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hreadPool xmi:id="ThreadPool_1172257094385" minimumSize="10" maximumSize="50" inactivityTimeout="3500" isGrowable="false" name="Message.Listener.Po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rvice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acheSettings xmi:id="EJBCache_1172257094385" cleanupInterval="3000" cacheSize="2053"/&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imerSettings xmi:id="EJBTimer_1172257094385" datasourceJNDIName="jdbc/DefaultEJBTimerDataSource" tablePrefix="EJBTIMER_" pollInterval="300" numAlarmThreads="1"/&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omponents&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graphicFrame>
        <p:nvGraphicFramePr>
          <p:cNvPr id="93" name=""/>
          <p:cNvGraphicFramePr/>
          <p:nvPr/>
        </p:nvGraphicFramePr>
        <p:xfrm>
          <a:off x="152280" y="727200"/>
          <a:ext cx="8686800" cy="5989680"/>
        </p:xfrm>
        <a:graphic>
          <a:graphicData uri="http://schemas.openxmlformats.org/presentationml/2006/ole">
            <p:oleObj progId="Word.Document.12" r:id="rId2" spid="">
              <p:embed/>
              <p:pic>
                <p:nvPicPr>
                  <p:cNvPr id="94" name="" descr=""/>
                  <p:cNvPicPr/>
                  <p:nvPr/>
                </p:nvPicPr>
                <p:blipFill>
                  <a:blip r:embed="rId3"/>
                  <a:stretch/>
                </p:blipFill>
                <p:spPr>
                  <a:xfrm>
                    <a:off x="152280" y="727200"/>
                    <a:ext cx="8686800" cy="598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76320"/>
            <a:ext cx="6172200" cy="60984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Shared Objects</a:t>
            </a:r>
            <a:endParaRPr b="0" lang="en-US" sz="4400" spc="-1" strike="noStrike">
              <a:solidFill>
                <a:srgbClr val="ffffff"/>
              </a:solidFill>
              <a:latin typeface="Arial"/>
            </a:endParaRPr>
          </a:p>
        </p:txBody>
      </p:sp>
      <p:sp>
        <p:nvSpPr>
          <p:cNvPr id="202" name="PlaceHolder 2"/>
          <p:cNvSpPr>
            <a:spLocks noGrp="1"/>
          </p:cNvSpPr>
          <p:nvPr>
            <p:ph/>
          </p:nvPr>
        </p:nvSpPr>
        <p:spPr>
          <a:xfrm>
            <a:off x="75960" y="456840"/>
            <a:ext cx="8915400" cy="10666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61000"/>
          </a:bodyPr>
          <a:p>
            <a:pPr marL="209160" indent="-20916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erformance or security or to enable integration with the platform IBM ship a number of shared objects for a given platform with WAS. </a:t>
            </a:r>
            <a:endParaRPr b="0" lang="en-US" sz="2000" spc="-1" strike="noStrike">
              <a:solidFill>
                <a:srgbClr val="ffffff"/>
              </a:solidFill>
              <a:latin typeface="Arial"/>
            </a:endParaRPr>
          </a:p>
          <a:p>
            <a:pPr lvl="1" marL="453240" indent="-1742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shared objects are in addition to those shipped with the J9 JVM</a:t>
            </a:r>
            <a:endParaRPr b="0" lang="en-US" sz="1600" spc="-1" strike="noStrike">
              <a:solidFill>
                <a:srgbClr val="ffffff"/>
              </a:solidFill>
              <a:latin typeface="Arial"/>
            </a:endParaRPr>
          </a:p>
          <a:p>
            <a:pPr lvl="1" marL="453240" indent="-1742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ヒラギノ角ゴ Pro W3"/>
              </a:rPr>
              <a:t>In the /bin subdirectory of the WAS installation</a:t>
            </a:r>
            <a:endParaRPr b="0" lang="en-US" sz="1600" spc="-1" strike="noStrike">
              <a:solidFill>
                <a:srgbClr val="ffffff"/>
              </a:solidFill>
              <a:latin typeface="Arial"/>
            </a:endParaRPr>
          </a:p>
          <a:p>
            <a:pPr lvl="1" marL="453240" indent="-1742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find out how these are used as JNI objects we can use “strings –a” to look for the “Java_XXXXX” entries to find out how each maps to the Java world.</a:t>
            </a:r>
            <a:endParaRPr b="0" lang="en-US" sz="1600" spc="-1" strike="noStrike">
              <a:solidFill>
                <a:srgbClr val="ffffff"/>
              </a:solidFill>
              <a:latin typeface="Arial"/>
            </a:endParaRPr>
          </a:p>
        </p:txBody>
      </p:sp>
      <p:sp>
        <p:nvSpPr>
          <p:cNvPr id="203"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204" name=""/>
          <p:cNvGraphicFramePr/>
          <p:nvPr/>
        </p:nvGraphicFramePr>
        <p:xfrm>
          <a:off x="0" y="2182680"/>
          <a:ext cx="9143640" cy="4700880"/>
        </p:xfrm>
        <a:graphic>
          <a:graphicData uri="http://schemas.openxmlformats.org/drawingml/2006/table">
            <a:tbl>
              <a:tblPr/>
              <a:tblGrid>
                <a:gridCol w="2129400"/>
                <a:gridCol w="3232080"/>
                <a:gridCol w="37821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me</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ava Class</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unctional Description</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getClasses.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classloader.ClassLoaderDump</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va Classloader Debug Access</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ibmaiodbg.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io.async.AsyncLibrary</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ynchronous I/O mapping – Debug Version</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ibmaio.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io.async.AsyncLibrary</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ynchronous I/O mapping – Normal Version</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NativeFile.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io.file.UnixNativeFil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o native Unix file system structures – including /proc file system</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pmiJvmpiProfiler.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mi.server.jvmpi.JvmpiJni</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va JVMPI performance statistics gathering managemen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pmiJvmtiProfiler.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mi.server.jvmpi.JvmpiJni</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va JVMPI / JVMTI performance statistics gathering management. Maps JVMTI data to JVMPI.</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Selector.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orbimpl.transport.JNIReaderThrea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ject request broker connection management. This is important as most J2EE security uses the CORBA CSIv2 functionality and a lot of J2EE internal communication uses CORBA IIOP so this shows that WAS bypasses the JVM sockets functionality for some of the CORBA (and thus the EJB container security) functions and talks directly to the AIX networking code.</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SystemData.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mi.server.system.SystemDat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eneral system level performance statistics gathering, i.e. CPU and memory stats</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UnixRegistryImpl.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security.registry.unix.UnixRegistryImpl</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ssword file access and Unix authentication</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Ws60ProcessManagement.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rocess.EnvUtilGlue_native</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mp;</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rocess.UnixProcessGlu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he Unix environment and process management (i.e. start and stop).</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75960"/>
            <a:ext cx="670572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have we covered</a:t>
            </a:r>
            <a:endParaRPr b="0" lang="en-US" sz="4400" spc="-1" strike="noStrike">
              <a:solidFill>
                <a:srgbClr val="ffffff"/>
              </a:solidFill>
              <a:latin typeface="Arial"/>
            </a:endParaRPr>
          </a:p>
        </p:txBody>
      </p:sp>
      <p:sp>
        <p:nvSpPr>
          <p:cNvPr id="206" name="PlaceHolder 2"/>
          <p:cNvSpPr>
            <a:spLocks noGrp="1"/>
          </p:cNvSpPr>
          <p:nvPr>
            <p:ph/>
          </p:nvPr>
        </p:nvSpPr>
        <p:spPr>
          <a:xfrm>
            <a:off x="457200" y="838080"/>
            <a:ext cx="8229600" cy="55627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7000"/>
          </a:bodyPr>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key layers of the WAS environment</a:t>
            </a:r>
            <a:endParaRPr b="0" lang="en-US" sz="2400" spc="-1" strike="noStrike">
              <a:solidFill>
                <a:srgbClr val="ffffff"/>
              </a:solidFill>
              <a:latin typeface="Arial"/>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J9 Java5 JVM</a:t>
            </a:r>
            <a:endParaRPr b="0" lang="en-US" sz="2400" spc="-1" strike="noStrike">
              <a:solidFill>
                <a:srgbClr val="ffffff"/>
              </a:solidFill>
              <a:latin typeface="Arial"/>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lipse 3.1.2 OSGI Runtime and Component Model</a:t>
            </a:r>
            <a:endParaRPr b="0" lang="en-US" sz="2400" spc="-1" strike="noStrike">
              <a:solidFill>
                <a:srgbClr val="ffffff"/>
              </a:solidFill>
              <a:latin typeface="Arial"/>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WAS Runtime that WAS services extend</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Configuration and Components</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Startup</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as been a quick overview. For more details:</a:t>
            </a:r>
            <a:endParaRPr b="0" lang="en-US" sz="24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my “WAS Internals” column in IBM Systems Magazine</a:t>
            </a:r>
            <a:endParaRPr b="0" lang="en-US" sz="2000" spc="-1" strike="noStrike">
              <a:solidFill>
                <a:srgbClr val="ffffff"/>
              </a:solidFill>
              <a:latin typeface="Arial"/>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my “WAS on AIX: Best Practice” RedBook “Under The Hood” chapter</a:t>
            </a:r>
            <a:endParaRPr b="0" lang="en-US" sz="2000" spc="-1" strike="noStrike">
              <a:solidFill>
                <a:srgbClr val="ffffff"/>
              </a:solidFill>
              <a:latin typeface="Arial"/>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 me for a cop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666880" y="0"/>
            <a:ext cx="4724640" cy="774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
        <p:nvSpPr>
          <p:cNvPr id="208" name="PlaceHolder 2"/>
          <p:cNvSpPr>
            <a:spLocks noGrp="1"/>
          </p:cNvSpPr>
          <p:nvPr>
            <p:ph/>
          </p:nvPr>
        </p:nvSpPr>
        <p:spPr>
          <a:xfrm>
            <a:off x="457200" y="152388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600" y="1066320"/>
            <a:ext cx="8686800" cy="495324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M officially list the following “features” of the IBM Java5 J9 JVM as differentiators from the base Sun offering:</a:t>
            </a:r>
            <a:endParaRPr b="0" lang="en-US" sz="28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lasses</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safe and generational garbage collection</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queued compilation in a background thread</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levels of code optimization with continuous sampling and profiling</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large page sizes</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rous RAS and serviceability enhancements  </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of these features exploits the underlying platform and accelerates the WebSphere Application Server</a:t>
            </a:r>
            <a:endParaRPr b="0" lang="en-US" sz="2800" spc="-1" strike="noStrike">
              <a:solidFill>
                <a:srgbClr val="ffffff"/>
              </a:solidFill>
              <a:latin typeface="Arial"/>
            </a:endParaRPr>
          </a:p>
        </p:txBody>
      </p:sp>
      <p:sp>
        <p:nvSpPr>
          <p:cNvPr id="96" name="PlaceHolder 2"/>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990360"/>
            <a:ext cx="8915400" cy="57150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90000"/>
              </a:lnSpc>
              <a:spcBef>
                <a:spcPts val="1199"/>
              </a:spcBef>
              <a:spcAft>
                <a:spcPts val="300"/>
              </a:spcAft>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st-In-time (JIT) Compiler Optimisation and Compilation on a Background Thread</a:t>
            </a:r>
            <a:endParaRPr b="0" lang="en-US" sz="2400" spc="-1" strike="noStrike">
              <a:solidFill>
                <a:srgbClr val="ffffff"/>
              </a:solidFill>
              <a:latin typeface="Arial"/>
            </a:endParaRPr>
          </a:p>
          <a:p>
            <a:pPr marL="339480" indent="-339480">
              <a:lnSpc>
                <a:spcPct val="90000"/>
              </a:lnSpc>
              <a:spcBef>
                <a:spcPts val="499"/>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cess is as follows:</a:t>
            </a:r>
            <a:endParaRPr b="0" lang="en-US" sz="20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method starts out being interpreted, i.e. level 1. This runs on the JVM directly. </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 number of invocations the heuristics are used to compile the byte code at cold or warm level.</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ckground sampling thread is used to identify hot methods.</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t  a hot level a profiling step may be used to decide how and whether to transition to a scorching level. Certain “hot” methods are identified as “hot enough“ to be recompiled with profiling hooks inserted.</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filed hot methods that require further optimisation are transitioned to scorching level.</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90000"/>
              </a:lnSpc>
              <a:spcBef>
                <a:spcPts val="499"/>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JIT Compiler and Interpreter both sample the usage of methods to make the decision as to when the optimization is necessary. This includes deciding when profiling hooks should be inserted into the “hot” code to determine the requirements of transitioning to a scorching optimization level.</a:t>
            </a:r>
            <a:endParaRPr b="0" lang="en-US" sz="2000" spc="-1" strike="noStrike">
              <a:solidFill>
                <a:srgbClr val="ffffff"/>
              </a:solidFill>
              <a:latin typeface="Arial"/>
            </a:endParaRPr>
          </a:p>
        </p:txBody>
      </p:sp>
      <p:sp>
        <p:nvSpPr>
          <p:cNvPr id="98" name="PlaceHolder 2"/>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240" y="990360"/>
            <a:ext cx="8915400" cy="57150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90000"/>
              </a:lnSpc>
              <a:spcBef>
                <a:spcPts val="1199"/>
              </a:spcBef>
              <a:spcAft>
                <a:spcPts val="300"/>
              </a:spcAft>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st-In-time (JIT) Compiler Optimisation and Compilation on a Background Thread (Contd)</a:t>
            </a:r>
            <a:endParaRPr b="0" lang="en-US" sz="2000" spc="-1" strike="noStrike">
              <a:solidFill>
                <a:srgbClr val="ffffff"/>
              </a:solidFill>
              <a:latin typeface="Arial"/>
            </a:endParaRPr>
          </a:p>
          <a:p>
            <a:pPr marL="339480" indent="-339480">
              <a:lnSpc>
                <a:spcPct val="90000"/>
              </a:lnSpc>
              <a:spcBef>
                <a:spcPts val="499"/>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types of optimization are available in the IBM J9 JIT Compiler:</a:t>
            </a:r>
            <a:endParaRPr b="0" lang="en-US" sz="20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lining</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d block outlining</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 propagation</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 hoisting</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 unroller</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ynchronous check removal</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propagation</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 versioning</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sub-expression elimination</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al redundancy elimination</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al store placement</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ifier</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cape analysis</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d tree removal</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 analysis</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90000"/>
              </a:lnSpc>
              <a:spcBef>
                <a:spcPts val="499"/>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monitor elimination</a:t>
            </a:r>
            <a:endParaRPr b="0" lang="en-US" sz="2000" spc="-1" strike="noStrike">
              <a:solidFill>
                <a:srgbClr val="ffffff"/>
              </a:solidFill>
              <a:latin typeface="Arial"/>
            </a:endParaRPr>
          </a:p>
        </p:txBody>
      </p:sp>
      <p:sp>
        <p:nvSpPr>
          <p:cNvPr id="100" name="PlaceHolder 2"/>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5331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a:t>
            </a:r>
            <a:endParaRPr b="0" lang="en-US" sz="4400" spc="-1" strike="noStrike">
              <a:solidFill>
                <a:srgbClr val="ffffff"/>
              </a:solidFill>
              <a:latin typeface="Arial"/>
            </a:endParaRPr>
          </a:p>
        </p:txBody>
      </p:sp>
      <p:sp>
        <p:nvSpPr>
          <p:cNvPr id="102" name="PlaceHolder 2"/>
          <p:cNvSpPr>
            <a:spLocks noGrp="1"/>
          </p:cNvSpPr>
          <p:nvPr>
            <p:ph/>
          </p:nvPr>
        </p:nvSpPr>
        <p:spPr>
          <a:xfrm>
            <a:off x="228600" y="609120"/>
            <a:ext cx="861048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4000"/>
          </a:bodyPr>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s startup time and reduces memory usage of subsequent WAS instances</a:t>
            </a:r>
            <a:endParaRPr b="0" lang="en-US" sz="2000" spc="-1" strike="noStrike">
              <a:solidFill>
                <a:srgbClr val="ffffff"/>
              </a:solidFill>
              <a:latin typeface="Arial"/>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by -Xshareclasses opt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arameters for control</a:t>
            </a:r>
            <a:endParaRPr b="0" lang="en-US" sz="1800" spc="-1" strike="noStrike">
              <a:solidFill>
                <a:srgbClr val="ffffff"/>
              </a:solidFill>
              <a:latin typeface="Arial"/>
            </a:endParaRPr>
          </a:p>
          <a:p>
            <a:pPr marL="3222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MClass information is cached</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does not change, i.e. byte code, immutable class information</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Class information is unique to a use of the class and changes so is stored in local process memory</a:t>
            </a:r>
            <a:endParaRPr b="0" lang="en-US" sz="1800" spc="-1" strike="noStrike">
              <a:solidFill>
                <a:srgbClr val="ffffff"/>
              </a:solidFill>
              <a:latin typeface="Arial"/>
            </a:endParaRPr>
          </a:p>
          <a:p>
            <a:pPr marL="3222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ava –Xshareclasses:name=myCache –Xscmx10M myClas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cmxYY sets the cache size to YY</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is controlled by name=ZZ</a:t>
            </a:r>
            <a:endParaRPr b="0" lang="en-US" sz="1800" spc="-1" strike="noStrike">
              <a:solidFill>
                <a:srgbClr val="ffffff"/>
              </a:solidFill>
              <a:latin typeface="Arial"/>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che is stored in shared memory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ects other processes so limited to 50MB for WAS</a:t>
            </a:r>
            <a:endParaRPr b="0" lang="en-US" sz="1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found at address 0x07000000 - the first shared memory segment.</a:t>
            </a:r>
            <a:r>
              <a:rPr b="0" lang="en-US" sz="2400" spc="-1" strike="noStrike">
                <a:solidFill>
                  <a:srgbClr val="ffffff"/>
                </a:solidFill>
                <a:latin typeface="Arial"/>
              </a:rPr>
              <a:t> </a:t>
            </a:r>
            <a:endParaRPr b="0" lang="en-US" sz="2400" spc="-1" strike="noStrike">
              <a:solidFill>
                <a:srgbClr val="ffffff"/>
              </a:solidFill>
              <a:latin typeface="Arial"/>
            </a:endParaRPr>
          </a:p>
          <a:p>
            <a:pPr marL="322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class file has a signature and the environment detects if the class file changes on disk during the cache lifetime and reloads if necessary.</a:t>
            </a:r>
            <a:endParaRPr b="0" lang="en-US" sz="2000" spc="-1" strike="noStrike">
              <a:solidFill>
                <a:srgbClr val="ffffff"/>
              </a:solidFill>
              <a:latin typeface="Arial"/>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is via /tmp/javasharedresource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and semaphore details stored on dis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23:16:51Z</dcterms:created>
  <dc:creator>Any Authorised Employee Lloyds TSB Group Plc</dc:creator>
  <dc:description/>
  <dc:language>en-US</dc:language>
  <cp:lastModifiedBy>Any Authorised Employee Lloyds TSB Group Plc</cp:lastModifiedBy>
  <dcterms:modified xsi:type="dcterms:W3CDTF">2008-02-26T21:47:31Z</dcterms:modified>
  <cp:revision>77</cp:revision>
  <dc:subject/>
  <dc:title>WAS 6.1 Under The Hood</dc:title>
</cp:coreProperties>
</file>